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E6F20-CBCF-458D-B209-98178B5D4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3752-4295-488B-9246-3EACCEFD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1E830-22AF-418A-9327-E674C295D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260ED-666E-4BBC-8E08-DD047C897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DFC38-D732-446E-9838-E872102D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FE11-5BC6-4BC1-A2B2-4D412BEE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094BB-03C7-40C4-B97A-3C2C09AD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01703-C418-47C0-82E5-9FAC9730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AF5E-596D-41B8-87B8-1D6C15F2A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006C-8A1C-4BEC-80F2-0D34E990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280B-0CFD-4800-92AD-BB4AF2B8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3AD2-FD6F-4AEE-A798-9300387D9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768B-A9E8-420C-821E-7D897F186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980720"/>
            <a:ext cx="75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I CARE INFLUENTEAZA PUTEREA DE GERMINATIE A SEMINTELOR DE FASOLE             </a:t>
            </a:r>
            <a:br>
              <a:rPr sz="4400"/>
            </a:br>
            <a:br>
              <a:rPr sz="4400"/>
            </a:br>
            <a:r>
              <a:rPr b="0" lang="en-US" sz="4400" spc="-1" strike="noStrike">
                <a:solidFill>
                  <a:srgbClr val="000000"/>
                </a:solidFill>
                <a:latin typeface="Times New Roman"/>
              </a:rPr>
              <a:t>elevi ALBU CONSTANTIN</a:t>
            </a:r>
            <a:br>
              <a:rPr sz="4400"/>
            </a:br>
            <a:r>
              <a:rPr b="0" lang="en-US" sz="4400" spc="-1" strike="noStrike">
                <a:solidFill>
                  <a:srgbClr val="000000"/>
                </a:solidFill>
                <a:latin typeface="Times New Roman"/>
              </a:rPr>
              <a:t>OBOROCEA PATRICIA</a:t>
            </a:r>
            <a:br>
              <a:rPr sz="4400"/>
            </a:br>
            <a:r>
              <a:rPr b="0" lang="en-US" sz="4400" spc="-1" strike="noStrike">
                <a:solidFill>
                  <a:srgbClr val="000000"/>
                </a:solidFill>
                <a:latin typeface="Times New Roman"/>
              </a:rPr>
              <a:t>NANAU ADELINA</a:t>
            </a:r>
            <a:br>
              <a:rPr sz="4400"/>
            </a:br>
            <a:r>
              <a:rPr b="0" lang="en-US" sz="4400" spc="-1" strike="noStrike">
                <a:solidFill>
                  <a:srgbClr val="000000"/>
                </a:solidFill>
                <a:latin typeface="Times New Roman"/>
              </a:rPr>
              <a:t>VILCEANU DENI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6857640"/>
            <a:ext cx="7772400" cy="30492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59" name=""/>
          <p:cNvGrpSpPr/>
          <p:nvPr/>
        </p:nvGrpSpPr>
        <p:grpSpPr>
          <a:xfrm>
            <a:off x="304920" y="762120"/>
            <a:ext cx="8457840" cy="5562000"/>
            <a:chOff x="304920" y="762120"/>
            <a:chExt cx="8457840" cy="5562000"/>
          </a:xfrm>
        </p:grpSpPr>
        <p:grpSp>
          <p:nvGrpSpPr>
            <p:cNvPr id="60" name=""/>
            <p:cNvGrpSpPr/>
            <p:nvPr/>
          </p:nvGrpSpPr>
          <p:grpSpPr>
            <a:xfrm>
              <a:off x="310320" y="767880"/>
              <a:ext cx="8445960" cy="5549400"/>
              <a:chOff x="310320" y="767880"/>
              <a:chExt cx="8445960" cy="5549400"/>
            </a:xfrm>
          </p:grpSpPr>
          <p:grpSp>
            <p:nvGrpSpPr>
              <p:cNvPr id="61" name=""/>
              <p:cNvGrpSpPr/>
              <p:nvPr/>
            </p:nvGrpSpPr>
            <p:grpSpPr>
              <a:xfrm>
                <a:off x="310320" y="767880"/>
                <a:ext cx="2401560" cy="1101600"/>
                <a:chOff x="310320" y="767880"/>
                <a:chExt cx="2401560" cy="1101600"/>
              </a:xfrm>
            </p:grpSpPr>
            <p:sp>
              <p:nvSpPr>
                <p:cNvPr id="62" name=""/>
                <p:cNvSpPr/>
                <p:nvPr/>
              </p:nvSpPr>
              <p:spPr>
                <a:xfrm>
                  <a:off x="391320" y="767880"/>
                  <a:ext cx="22399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ZELE</a:t>
                  </a:r>
                  <a:r>
                    <a:rPr b="0" lang="en-US" sz="1400" spc="-1" strike="noStrike">
                      <a:solidFill>
                        <a:srgbClr val="000000"/>
                      </a:solidFill>
                      <a:latin typeface="Times New Roman"/>
                    </a:rPr>
                    <a:t> </a:t>
                  </a:r>
                  <a:r>
                    <a:rPr b="0" lang="en-US" sz="2000" spc="-1" strike="noStrike">
                      <a:solidFill>
                        <a:srgbClr val="000000"/>
                      </a:solidFill>
                      <a:latin typeface="Times New Roman"/>
                    </a:rPr>
                    <a:t>GERMINATIE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310320" y="767880"/>
                  <a:ext cx="2401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2712240" y="767880"/>
                <a:ext cx="2113560" cy="1101600"/>
                <a:chOff x="2712240" y="767880"/>
                <a:chExt cx="2113560" cy="1101600"/>
              </a:xfrm>
            </p:grpSpPr>
            <p:sp>
              <p:nvSpPr>
                <p:cNvPr id="65" name=""/>
                <p:cNvSpPr/>
                <p:nvPr/>
              </p:nvSpPr>
              <p:spPr>
                <a:xfrm>
                  <a:off x="2793240" y="767880"/>
                  <a:ext cx="195120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 de la robin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712240" y="767880"/>
                  <a:ext cx="2113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826160" y="767880"/>
                <a:ext cx="1964520" cy="1101600"/>
                <a:chOff x="4826160" y="767880"/>
                <a:chExt cx="1964520" cy="1101600"/>
              </a:xfrm>
            </p:grpSpPr>
            <p:sp>
              <p:nvSpPr>
                <p:cNvPr id="68" name=""/>
                <p:cNvSpPr/>
                <p:nvPr/>
              </p:nvSpPr>
              <p:spPr>
                <a:xfrm>
                  <a:off x="4907160" y="767880"/>
                  <a:ext cx="180288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 de izv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826160" y="767880"/>
                  <a:ext cx="196452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791400" y="767880"/>
                <a:ext cx="1964880" cy="1101600"/>
                <a:chOff x="6791400" y="767880"/>
                <a:chExt cx="1964880" cy="1101600"/>
              </a:xfrm>
            </p:grpSpPr>
            <p:sp>
              <p:nvSpPr>
                <p:cNvPr id="71" name=""/>
                <p:cNvSpPr/>
                <p:nvPr/>
              </p:nvSpPr>
              <p:spPr>
                <a:xfrm>
                  <a:off x="6872400" y="767880"/>
                  <a:ext cx="18025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pa plata</a:t>
                  </a:r>
                  <a:r>
                    <a:rPr b="0" lang="en-US" sz="2400" spc="-1" strike="noStrike">
                      <a:solidFill>
                        <a:srgbClr val="000000"/>
                      </a:solidFill>
                      <a:latin typeface="Times New Roman"/>
                    </a:rPr>
                    <a:t> Borse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791400" y="767880"/>
                  <a:ext cx="19648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10320" y="1869840"/>
                <a:ext cx="2401560" cy="1101600"/>
                <a:chOff x="310320" y="1869840"/>
                <a:chExt cx="2401560" cy="1101600"/>
              </a:xfrm>
            </p:grpSpPr>
            <p:sp>
              <p:nvSpPr>
                <p:cNvPr id="74" name=""/>
                <p:cNvSpPr/>
                <p:nvPr/>
              </p:nvSpPr>
              <p:spPr>
                <a:xfrm>
                  <a:off x="391320" y="1869840"/>
                  <a:ext cx="22399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Ziua si ora la care au fost puse la germin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10320" y="1869840"/>
                  <a:ext cx="2401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712240" y="1869840"/>
                <a:ext cx="2113560" cy="1101600"/>
                <a:chOff x="2712240" y="1869840"/>
                <a:chExt cx="2113560" cy="1101600"/>
              </a:xfrm>
            </p:grpSpPr>
            <p:sp>
              <p:nvSpPr>
                <p:cNvPr id="77" name=""/>
                <p:cNvSpPr/>
                <p:nvPr/>
              </p:nvSpPr>
              <p:spPr>
                <a:xfrm>
                  <a:off x="2793240" y="1869840"/>
                  <a:ext cx="195120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712240" y="1869840"/>
                  <a:ext cx="2113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826160" y="1869840"/>
                <a:ext cx="1964520" cy="1101600"/>
                <a:chOff x="4826160" y="1869840"/>
                <a:chExt cx="1964520" cy="1101600"/>
              </a:xfrm>
            </p:grpSpPr>
            <p:sp>
              <p:nvSpPr>
                <p:cNvPr id="80" name=""/>
                <p:cNvSpPr/>
                <p:nvPr/>
              </p:nvSpPr>
              <p:spPr>
                <a:xfrm>
                  <a:off x="4907160" y="1869840"/>
                  <a:ext cx="180288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p:txBody>
            </p:sp>
            <p:sp>
              <p:nvSpPr>
                <p:cNvPr id="81" name=""/>
                <p:cNvSpPr/>
                <p:nvPr/>
              </p:nvSpPr>
              <p:spPr>
                <a:xfrm>
                  <a:off x="4826160" y="1869840"/>
                  <a:ext cx="196452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6791400" y="1869840"/>
                <a:ext cx="1964880" cy="1101600"/>
                <a:chOff x="6791400" y="1869840"/>
                <a:chExt cx="1964880" cy="1101600"/>
              </a:xfrm>
            </p:grpSpPr>
            <p:sp>
              <p:nvSpPr>
                <p:cNvPr id="83" name=""/>
                <p:cNvSpPr/>
                <p:nvPr/>
              </p:nvSpPr>
              <p:spPr>
                <a:xfrm>
                  <a:off x="6872400" y="1869840"/>
                  <a:ext cx="18025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91400" y="1869840"/>
                  <a:ext cx="19648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10320" y="2972160"/>
                <a:ext cx="2401560" cy="835920"/>
                <a:chOff x="310320" y="2972160"/>
                <a:chExt cx="2401560" cy="835920"/>
              </a:xfrm>
            </p:grpSpPr>
            <p:sp>
              <p:nvSpPr>
                <p:cNvPr id="86" name=""/>
                <p:cNvSpPr/>
                <p:nvPr/>
              </p:nvSpPr>
              <p:spPr>
                <a:xfrm>
                  <a:off x="391320" y="297216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imbiba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10320" y="297216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712240" y="2972160"/>
                <a:ext cx="2113560" cy="835920"/>
                <a:chOff x="2712240" y="2972160"/>
                <a:chExt cx="2113560" cy="835920"/>
              </a:xfrm>
            </p:grpSpPr>
            <p:sp>
              <p:nvSpPr>
                <p:cNvPr id="89" name=""/>
                <p:cNvSpPr/>
                <p:nvPr/>
              </p:nvSpPr>
              <p:spPr>
                <a:xfrm>
                  <a:off x="2793240" y="297216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712240" y="297216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826160" y="2972160"/>
                <a:ext cx="1964520" cy="835920"/>
                <a:chOff x="4826160" y="2972160"/>
                <a:chExt cx="1964520" cy="835920"/>
              </a:xfrm>
            </p:grpSpPr>
            <p:sp>
              <p:nvSpPr>
                <p:cNvPr id="92" name=""/>
                <p:cNvSpPr/>
                <p:nvPr/>
              </p:nvSpPr>
              <p:spPr>
                <a:xfrm>
                  <a:off x="4907160" y="297216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826160" y="297216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6791400" y="2972160"/>
                <a:ext cx="1964880" cy="835920"/>
                <a:chOff x="6791400" y="2972160"/>
                <a:chExt cx="1964880" cy="835920"/>
              </a:xfrm>
            </p:grpSpPr>
            <p:sp>
              <p:nvSpPr>
                <p:cNvPr id="95" name=""/>
                <p:cNvSpPr/>
                <p:nvPr/>
              </p:nvSpPr>
              <p:spPr>
                <a:xfrm>
                  <a:off x="6872400" y="297216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791400" y="297216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10320" y="3808800"/>
                <a:ext cx="2401560" cy="835560"/>
                <a:chOff x="310320" y="3808800"/>
                <a:chExt cx="2401560" cy="835560"/>
              </a:xfrm>
            </p:grpSpPr>
            <p:sp>
              <p:nvSpPr>
                <p:cNvPr id="98" name=""/>
                <p:cNvSpPr/>
                <p:nvPr/>
              </p:nvSpPr>
              <p:spPr>
                <a:xfrm>
                  <a:off x="391320" y="3808800"/>
                  <a:ext cx="223992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increti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10320" y="3808800"/>
                  <a:ext cx="240156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2712240" y="3808800"/>
                <a:ext cx="2113560" cy="835560"/>
                <a:chOff x="2712240" y="3808800"/>
                <a:chExt cx="2113560" cy="835560"/>
              </a:xfrm>
            </p:grpSpPr>
            <p:sp>
              <p:nvSpPr>
                <p:cNvPr id="101" name=""/>
                <p:cNvSpPr/>
                <p:nvPr/>
              </p:nvSpPr>
              <p:spPr>
                <a:xfrm>
                  <a:off x="2793240" y="3808800"/>
                  <a:ext cx="195120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712240" y="3808800"/>
                  <a:ext cx="211356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826160" y="3808800"/>
                <a:ext cx="1964520" cy="835560"/>
                <a:chOff x="4826160" y="3808800"/>
                <a:chExt cx="1964520" cy="835560"/>
              </a:xfrm>
            </p:grpSpPr>
            <p:sp>
              <p:nvSpPr>
                <p:cNvPr id="104" name=""/>
                <p:cNvSpPr/>
                <p:nvPr/>
              </p:nvSpPr>
              <p:spPr>
                <a:xfrm>
                  <a:off x="4907160" y="3808800"/>
                  <a:ext cx="180288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826160" y="3808800"/>
                  <a:ext cx="196452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791400" y="3808800"/>
                <a:ext cx="1964880" cy="835560"/>
                <a:chOff x="6791400" y="3808800"/>
                <a:chExt cx="1964880" cy="835560"/>
              </a:xfrm>
            </p:grpSpPr>
            <p:sp>
              <p:nvSpPr>
                <p:cNvPr id="107" name=""/>
                <p:cNvSpPr/>
                <p:nvPr/>
              </p:nvSpPr>
              <p:spPr>
                <a:xfrm>
                  <a:off x="6872400" y="3808800"/>
                  <a:ext cx="180252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a:t>
                  </a:r>
                  <a:r>
                    <a:rPr b="0" lang="en-US" sz="2400" spc="-1" strike="noStrike">
                      <a:solidFill>
                        <a:srgbClr val="000000"/>
                      </a:solidFill>
                      <a:latin typeface="Times New Roman"/>
                    </a:rPr>
                    <a:t>0</a:t>
                  </a:r>
                  <a:r>
                    <a:rPr b="0" lang="ro-RO" sz="2400" spc="-1" strike="noStrike">
                      <a:solidFill>
                        <a:srgbClr val="000000"/>
                      </a:solidFill>
                      <a:latin typeface="Times New Roman"/>
                    </a:rPr>
                    <a:t>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791400" y="3808800"/>
                  <a:ext cx="196488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0320" y="4645080"/>
                <a:ext cx="2401560" cy="835920"/>
                <a:chOff x="310320" y="4645080"/>
                <a:chExt cx="2401560" cy="835920"/>
              </a:xfrm>
            </p:grpSpPr>
            <p:sp>
              <p:nvSpPr>
                <p:cNvPr id="110" name=""/>
                <p:cNvSpPr/>
                <p:nvPr/>
              </p:nvSpPr>
              <p:spPr>
                <a:xfrm>
                  <a:off x="391320" y="464508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Rupe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10320" y="464508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712240" y="4645080"/>
                <a:ext cx="2113560" cy="835920"/>
                <a:chOff x="2712240" y="4645080"/>
                <a:chExt cx="2113560" cy="835920"/>
              </a:xfrm>
            </p:grpSpPr>
            <p:sp>
              <p:nvSpPr>
                <p:cNvPr id="113" name=""/>
                <p:cNvSpPr/>
                <p:nvPr/>
              </p:nvSpPr>
              <p:spPr>
                <a:xfrm>
                  <a:off x="2793240" y="464508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712240" y="464508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826160" y="4645080"/>
                <a:ext cx="1964520" cy="835920"/>
                <a:chOff x="4826160" y="4645080"/>
                <a:chExt cx="1964520" cy="835920"/>
              </a:xfrm>
            </p:grpSpPr>
            <p:sp>
              <p:nvSpPr>
                <p:cNvPr id="116" name=""/>
                <p:cNvSpPr/>
                <p:nvPr/>
              </p:nvSpPr>
              <p:spPr>
                <a:xfrm>
                  <a:off x="4907160" y="464508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826160" y="464508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791400" y="4645080"/>
                <a:ext cx="1964880" cy="835920"/>
                <a:chOff x="6791400" y="4645080"/>
                <a:chExt cx="1964880" cy="835920"/>
              </a:xfrm>
            </p:grpSpPr>
            <p:sp>
              <p:nvSpPr>
                <p:cNvPr id="119" name=""/>
                <p:cNvSpPr/>
                <p:nvPr/>
              </p:nvSpPr>
              <p:spPr>
                <a:xfrm>
                  <a:off x="6872400" y="464508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791400" y="464508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10320" y="5481360"/>
                <a:ext cx="2401560" cy="835920"/>
                <a:chOff x="310320" y="5481360"/>
                <a:chExt cx="2401560" cy="835920"/>
              </a:xfrm>
            </p:grpSpPr>
            <p:sp>
              <p:nvSpPr>
                <p:cNvPr id="122" name=""/>
                <p:cNvSpPr/>
                <p:nvPr/>
              </p:nvSpPr>
              <p:spPr>
                <a:xfrm>
                  <a:off x="391320" y="548136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pariti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10320" y="548136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712240" y="5481360"/>
                <a:ext cx="2113560" cy="835920"/>
                <a:chOff x="2712240" y="5481360"/>
                <a:chExt cx="2113560" cy="835920"/>
              </a:xfrm>
            </p:grpSpPr>
            <p:sp>
              <p:nvSpPr>
                <p:cNvPr id="125" name=""/>
                <p:cNvSpPr/>
                <p:nvPr/>
              </p:nvSpPr>
              <p:spPr>
                <a:xfrm>
                  <a:off x="2793240" y="548136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712240" y="548136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826160" y="5481360"/>
                <a:ext cx="1964520" cy="835920"/>
                <a:chOff x="4826160" y="5481360"/>
                <a:chExt cx="1964520" cy="835920"/>
              </a:xfrm>
            </p:grpSpPr>
            <p:sp>
              <p:nvSpPr>
                <p:cNvPr id="128" name=""/>
                <p:cNvSpPr/>
                <p:nvPr/>
              </p:nvSpPr>
              <p:spPr>
                <a:xfrm>
                  <a:off x="4907160" y="548136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826160" y="548136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6791400" y="5481360"/>
                <a:ext cx="1964880" cy="835920"/>
                <a:chOff x="6791400" y="5481360"/>
                <a:chExt cx="1964880" cy="835920"/>
              </a:xfrm>
            </p:grpSpPr>
            <p:sp>
              <p:nvSpPr>
                <p:cNvPr id="131" name=""/>
                <p:cNvSpPr/>
                <p:nvPr/>
              </p:nvSpPr>
              <p:spPr>
                <a:xfrm>
                  <a:off x="6872400" y="548136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791400" y="548136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304920" y="762120"/>
              <a:ext cx="8457840" cy="556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134" name=""/>
          <p:cNvGrpSpPr/>
          <p:nvPr/>
        </p:nvGrpSpPr>
        <p:grpSpPr>
          <a:xfrm>
            <a:off x="0" y="0"/>
            <a:ext cx="8838720" cy="6857640"/>
            <a:chOff x="0" y="0"/>
            <a:chExt cx="8838720" cy="6857640"/>
          </a:xfrm>
        </p:grpSpPr>
        <p:grpSp>
          <p:nvGrpSpPr>
            <p:cNvPr id="135" name=""/>
            <p:cNvGrpSpPr/>
            <p:nvPr/>
          </p:nvGrpSpPr>
          <p:grpSpPr>
            <a:xfrm>
              <a:off x="5760" y="5400"/>
              <a:ext cx="8826480" cy="6845400"/>
              <a:chOff x="5760" y="5400"/>
              <a:chExt cx="8826480" cy="6845400"/>
            </a:xfrm>
          </p:grpSpPr>
          <p:grpSp>
            <p:nvGrpSpPr>
              <p:cNvPr id="136" name=""/>
              <p:cNvGrpSpPr/>
              <p:nvPr/>
            </p:nvGrpSpPr>
            <p:grpSpPr>
              <a:xfrm>
                <a:off x="5760" y="5400"/>
                <a:ext cx="2509920" cy="1049760"/>
                <a:chOff x="5760" y="5400"/>
                <a:chExt cx="2509920" cy="1049760"/>
              </a:xfrm>
            </p:grpSpPr>
            <p:sp>
              <p:nvSpPr>
                <p:cNvPr id="137" name=""/>
                <p:cNvSpPr/>
                <p:nvPr/>
              </p:nvSpPr>
              <p:spPr>
                <a:xfrm>
                  <a:off x="90360" y="540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6</a:t>
                  </a:r>
                  <a:r>
                    <a:rPr b="0" lang="ro-RO" sz="2400" spc="-1" strike="noStrike">
                      <a:solidFill>
                        <a:srgbClr val="000000"/>
                      </a:solidFill>
                      <a:latin typeface="Times New Roman"/>
                    </a:rPr>
                    <a:t>.Aparitia perilor absorba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760" y="540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516040" y="5400"/>
                <a:ext cx="2208960" cy="1049760"/>
                <a:chOff x="2516040" y="5400"/>
                <a:chExt cx="2208960" cy="1049760"/>
              </a:xfrm>
            </p:grpSpPr>
            <p:sp>
              <p:nvSpPr>
                <p:cNvPr id="140" name=""/>
                <p:cNvSpPr/>
                <p:nvPr/>
              </p:nvSpPr>
              <p:spPr>
                <a:xfrm>
                  <a:off x="2600640" y="540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12</a:t>
                  </a:r>
                  <a:r>
                    <a:rPr b="0" lang="en-US" sz="1400" spc="-1" strike="noStrike">
                      <a:solidFill>
                        <a:srgbClr val="000000"/>
                      </a:solidFill>
                      <a:latin typeface="Times New Roman"/>
                    </a:rPr>
                    <a:t> 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2516040" y="540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725360" y="5400"/>
                <a:ext cx="2053080" cy="1049760"/>
                <a:chOff x="4725360" y="5400"/>
                <a:chExt cx="2053080" cy="1049760"/>
              </a:xfrm>
            </p:grpSpPr>
            <p:sp>
              <p:nvSpPr>
                <p:cNvPr id="143" name=""/>
                <p:cNvSpPr/>
                <p:nvPr/>
              </p:nvSpPr>
              <p:spPr>
                <a:xfrm>
                  <a:off x="4809960" y="540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725360" y="540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778800" y="5400"/>
                <a:ext cx="2053440" cy="1049760"/>
                <a:chOff x="6778800" y="5400"/>
                <a:chExt cx="2053440" cy="1049760"/>
              </a:xfrm>
            </p:grpSpPr>
            <p:sp>
              <p:nvSpPr>
                <p:cNvPr id="146" name=""/>
                <p:cNvSpPr/>
                <p:nvPr/>
              </p:nvSpPr>
              <p:spPr>
                <a:xfrm>
                  <a:off x="6863400" y="540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15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778800" y="540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760" y="1055520"/>
                <a:ext cx="2509920" cy="796680"/>
                <a:chOff x="5760" y="1055520"/>
                <a:chExt cx="2509920" cy="796680"/>
              </a:xfrm>
            </p:grpSpPr>
            <p:sp>
              <p:nvSpPr>
                <p:cNvPr id="149" name=""/>
                <p:cNvSpPr/>
                <p:nvPr/>
              </p:nvSpPr>
              <p:spPr>
                <a:xfrm>
                  <a:off x="90360" y="1055520"/>
                  <a:ext cx="234072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7.Aparitia radacin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60" y="1055520"/>
                  <a:ext cx="250992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2516040" y="1055520"/>
                <a:ext cx="2208960" cy="796680"/>
                <a:chOff x="2516040" y="1055520"/>
                <a:chExt cx="2208960" cy="796680"/>
              </a:xfrm>
            </p:grpSpPr>
            <p:sp>
              <p:nvSpPr>
                <p:cNvPr id="152" name=""/>
                <p:cNvSpPr/>
                <p:nvPr/>
              </p:nvSpPr>
              <p:spPr>
                <a:xfrm>
                  <a:off x="2600640" y="1055520"/>
                  <a:ext cx="203940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16040" y="1055520"/>
                  <a:ext cx="22089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725360" y="1055520"/>
                <a:ext cx="2053080" cy="796680"/>
                <a:chOff x="4725360" y="1055520"/>
                <a:chExt cx="2053080" cy="796680"/>
              </a:xfrm>
            </p:grpSpPr>
            <p:sp>
              <p:nvSpPr>
                <p:cNvPr id="155" name=""/>
                <p:cNvSpPr/>
                <p:nvPr/>
              </p:nvSpPr>
              <p:spPr>
                <a:xfrm>
                  <a:off x="4809960" y="10555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725360" y="1055520"/>
                  <a:ext cx="2053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778800" y="1055520"/>
                <a:ext cx="2053440" cy="796680"/>
                <a:chOff x="6778800" y="1055520"/>
                <a:chExt cx="2053440" cy="796680"/>
              </a:xfrm>
            </p:grpSpPr>
            <p:sp>
              <p:nvSpPr>
                <p:cNvPr id="158" name=""/>
                <p:cNvSpPr/>
                <p:nvPr/>
              </p:nvSpPr>
              <p:spPr>
                <a:xfrm>
                  <a:off x="6863400" y="10555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3 ore 4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78800" y="1055520"/>
                  <a:ext cx="205344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760" y="1852920"/>
                <a:ext cx="2509920" cy="796680"/>
                <a:chOff x="5760" y="1852920"/>
                <a:chExt cx="2509920" cy="796680"/>
              </a:xfrm>
            </p:grpSpPr>
            <p:sp>
              <p:nvSpPr>
                <p:cNvPr id="161" name=""/>
                <p:cNvSpPr/>
                <p:nvPr/>
              </p:nvSpPr>
              <p:spPr>
                <a:xfrm>
                  <a:off x="90360" y="1852920"/>
                  <a:ext cx="234072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8.Aparitia tulp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760" y="1852920"/>
                  <a:ext cx="250992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516040" y="1852920"/>
                <a:ext cx="2208960" cy="796680"/>
                <a:chOff x="2516040" y="1852920"/>
                <a:chExt cx="2208960" cy="796680"/>
              </a:xfrm>
            </p:grpSpPr>
            <p:sp>
              <p:nvSpPr>
                <p:cNvPr id="164" name=""/>
                <p:cNvSpPr/>
                <p:nvPr/>
              </p:nvSpPr>
              <p:spPr>
                <a:xfrm>
                  <a:off x="2600640" y="1852920"/>
                  <a:ext cx="203940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516040" y="1852920"/>
                  <a:ext cx="22089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725360" y="1852920"/>
                <a:ext cx="2053080" cy="796680"/>
                <a:chOff x="4725360" y="1852920"/>
                <a:chExt cx="2053080" cy="796680"/>
              </a:xfrm>
            </p:grpSpPr>
            <p:sp>
              <p:nvSpPr>
                <p:cNvPr id="167" name=""/>
                <p:cNvSpPr/>
                <p:nvPr/>
              </p:nvSpPr>
              <p:spPr>
                <a:xfrm>
                  <a:off x="4809960" y="18529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4 zile, dimine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25360" y="1852920"/>
                  <a:ext cx="2053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6778800" y="1852920"/>
                <a:ext cx="2053440" cy="796680"/>
                <a:chOff x="6778800" y="1852920"/>
                <a:chExt cx="2053440" cy="796680"/>
              </a:xfrm>
            </p:grpSpPr>
            <p:sp>
              <p:nvSpPr>
                <p:cNvPr id="170" name=""/>
                <p:cNvSpPr/>
                <p:nvPr/>
              </p:nvSpPr>
              <p:spPr>
                <a:xfrm>
                  <a:off x="6863400" y="18529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78800" y="1852920"/>
                  <a:ext cx="205344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760" y="2650320"/>
                <a:ext cx="2509920" cy="1049400"/>
                <a:chOff x="5760" y="2650320"/>
                <a:chExt cx="2509920" cy="1049400"/>
              </a:xfrm>
            </p:grpSpPr>
            <p:sp>
              <p:nvSpPr>
                <p:cNvPr id="173" name=""/>
                <p:cNvSpPr/>
                <p:nvPr/>
              </p:nvSpPr>
              <p:spPr>
                <a:xfrm>
                  <a:off x="90360" y="2650320"/>
                  <a:ext cx="234072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9. aparitia primelor frunz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760" y="2650320"/>
                  <a:ext cx="250992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2516040" y="2650320"/>
                <a:ext cx="2208960" cy="1049400"/>
                <a:chOff x="2516040" y="2650320"/>
                <a:chExt cx="2208960" cy="1049400"/>
              </a:xfrm>
            </p:grpSpPr>
            <p:sp>
              <p:nvSpPr>
                <p:cNvPr id="176" name=""/>
                <p:cNvSpPr/>
                <p:nvPr/>
              </p:nvSpPr>
              <p:spPr>
                <a:xfrm>
                  <a:off x="2600640" y="2650320"/>
                  <a:ext cx="203940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6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16040" y="2650320"/>
                  <a:ext cx="220896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725360" y="2650320"/>
                <a:ext cx="2053080" cy="1049400"/>
                <a:chOff x="4725360" y="2650320"/>
                <a:chExt cx="2053080" cy="1049400"/>
              </a:xfrm>
            </p:grpSpPr>
            <p:sp>
              <p:nvSpPr>
                <p:cNvPr id="179" name=""/>
                <p:cNvSpPr/>
                <p:nvPr/>
              </p:nvSpPr>
              <p:spPr>
                <a:xfrm>
                  <a:off x="4809960" y="2650320"/>
                  <a:ext cx="188388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 sea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725360" y="2650320"/>
                  <a:ext cx="20530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778800" y="2650320"/>
                <a:ext cx="2053440" cy="1049400"/>
                <a:chOff x="6778800" y="2650320"/>
                <a:chExt cx="2053440" cy="1049400"/>
              </a:xfrm>
            </p:grpSpPr>
            <p:sp>
              <p:nvSpPr>
                <p:cNvPr id="182" name=""/>
                <p:cNvSpPr/>
                <p:nvPr/>
              </p:nvSpPr>
              <p:spPr>
                <a:xfrm>
                  <a:off x="6863400" y="2650320"/>
                  <a:ext cx="188388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 si 12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778800" y="2650320"/>
                  <a:ext cx="205344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760" y="3700080"/>
                <a:ext cx="2509920" cy="1049760"/>
                <a:chOff x="5760" y="3700080"/>
                <a:chExt cx="2509920" cy="1049760"/>
              </a:xfrm>
            </p:grpSpPr>
            <p:sp>
              <p:nvSpPr>
                <p:cNvPr id="185" name=""/>
                <p:cNvSpPr/>
                <p:nvPr/>
              </p:nvSpPr>
              <p:spPr>
                <a:xfrm>
                  <a:off x="90360" y="370008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ulpi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760" y="370008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16040" y="3700080"/>
                <a:ext cx="2208960" cy="1049760"/>
                <a:chOff x="2516040" y="3700080"/>
                <a:chExt cx="2208960" cy="1049760"/>
              </a:xfrm>
            </p:grpSpPr>
            <p:sp>
              <p:nvSpPr>
                <p:cNvPr id="188" name=""/>
                <p:cNvSpPr/>
                <p:nvPr/>
              </p:nvSpPr>
              <p:spPr>
                <a:xfrm>
                  <a:off x="2600640" y="370008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3 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516040" y="370008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725360" y="3700080"/>
                <a:ext cx="2053080" cy="1049760"/>
                <a:chOff x="4725360" y="3700080"/>
                <a:chExt cx="2053080" cy="1049760"/>
              </a:xfrm>
            </p:grpSpPr>
            <p:sp>
              <p:nvSpPr>
                <p:cNvPr id="191" name=""/>
                <p:cNvSpPr/>
                <p:nvPr/>
              </p:nvSpPr>
              <p:spPr>
                <a:xfrm>
                  <a:off x="4809960" y="370008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5 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725360" y="370008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6778800" y="3700080"/>
                <a:ext cx="2053440" cy="1049760"/>
                <a:chOff x="6778800" y="3700080"/>
                <a:chExt cx="2053440" cy="1049760"/>
              </a:xfrm>
            </p:grpSpPr>
            <p:sp>
              <p:nvSpPr>
                <p:cNvPr id="194" name=""/>
                <p:cNvSpPr/>
                <p:nvPr/>
              </p:nvSpPr>
              <p:spPr>
                <a:xfrm>
                  <a:off x="6863400" y="370008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2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778800" y="370008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760" y="4750560"/>
                <a:ext cx="2509920" cy="1049760"/>
                <a:chOff x="5760" y="4750560"/>
                <a:chExt cx="2509920" cy="1049760"/>
              </a:xfrm>
            </p:grpSpPr>
            <p:sp>
              <p:nvSpPr>
                <p:cNvPr id="197" name=""/>
                <p:cNvSpPr/>
                <p:nvPr/>
              </p:nvSpPr>
              <p:spPr>
                <a:xfrm>
                  <a:off x="90360" y="475056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Orientarea cotiledoanel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760" y="475056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516040" y="4750560"/>
                <a:ext cx="2208960" cy="1049760"/>
                <a:chOff x="2516040" y="4750560"/>
                <a:chExt cx="2208960" cy="1049760"/>
              </a:xfrm>
            </p:grpSpPr>
            <p:sp>
              <p:nvSpPr>
                <p:cNvPr id="200" name=""/>
                <p:cNvSpPr/>
                <p:nvPr/>
              </p:nvSpPr>
              <p:spPr>
                <a:xfrm>
                  <a:off x="2600640" y="475056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516040" y="475056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725360" y="4750560"/>
                <a:ext cx="2053080" cy="1049760"/>
                <a:chOff x="4725360" y="4750560"/>
                <a:chExt cx="2053080" cy="1049760"/>
              </a:xfrm>
            </p:grpSpPr>
            <p:sp>
              <p:nvSpPr>
                <p:cNvPr id="203" name=""/>
                <p:cNvSpPr/>
                <p:nvPr/>
              </p:nvSpPr>
              <p:spPr>
                <a:xfrm>
                  <a:off x="4809960" y="475056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25360" y="475056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78800" y="4750560"/>
                <a:ext cx="2053440" cy="1049760"/>
                <a:chOff x="6778800" y="4750560"/>
                <a:chExt cx="2053440" cy="1049760"/>
              </a:xfrm>
            </p:grpSpPr>
            <p:sp>
              <p:nvSpPr>
                <p:cNvPr id="206" name=""/>
                <p:cNvSpPr/>
                <p:nvPr/>
              </p:nvSpPr>
              <p:spPr>
                <a:xfrm>
                  <a:off x="6863400" y="475056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78800" y="475056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760" y="5801040"/>
                <a:ext cx="2509920" cy="1049760"/>
                <a:chOff x="5760" y="5801040"/>
                <a:chExt cx="2509920" cy="1049760"/>
              </a:xfrm>
            </p:grpSpPr>
            <p:sp>
              <p:nvSpPr>
                <p:cNvPr id="209" name=""/>
                <p:cNvSpPr/>
                <p:nvPr/>
              </p:nvSpPr>
              <p:spPr>
                <a:xfrm>
                  <a:off x="90360" y="580104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2. Nr semintelor germin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760" y="580104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516040" y="5801040"/>
                <a:ext cx="2208960" cy="1049760"/>
                <a:chOff x="2516040" y="5801040"/>
                <a:chExt cx="2208960" cy="1049760"/>
              </a:xfrm>
            </p:grpSpPr>
            <p:sp>
              <p:nvSpPr>
                <p:cNvPr id="212" name=""/>
                <p:cNvSpPr/>
                <p:nvPr/>
              </p:nvSpPr>
              <p:spPr>
                <a:xfrm>
                  <a:off x="2600640" y="580104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516040" y="580104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725360" y="5801040"/>
                <a:ext cx="2053080" cy="1049760"/>
                <a:chOff x="4725360" y="5801040"/>
                <a:chExt cx="2053080" cy="1049760"/>
              </a:xfrm>
            </p:grpSpPr>
            <p:sp>
              <p:nvSpPr>
                <p:cNvPr id="215" name=""/>
                <p:cNvSpPr/>
                <p:nvPr/>
              </p:nvSpPr>
              <p:spPr>
                <a:xfrm>
                  <a:off x="4809960" y="580104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a:t>
                  </a:r>
                  <a:endParaRPr b="0" lang="en-US" sz="2400" spc="-1" strike="noStrike">
                    <a:solidFill>
                      <a:srgbClr val="000000"/>
                    </a:solidFill>
                    <a:latin typeface="Times New Roman"/>
                  </a:endParaRPr>
                </a:p>
              </p:txBody>
            </p:sp>
            <p:sp>
              <p:nvSpPr>
                <p:cNvPr id="216" name=""/>
                <p:cNvSpPr/>
                <p:nvPr/>
              </p:nvSpPr>
              <p:spPr>
                <a:xfrm>
                  <a:off x="4725360" y="580104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778800" y="5801040"/>
                <a:ext cx="2053440" cy="1049760"/>
                <a:chOff x="6778800" y="5801040"/>
                <a:chExt cx="2053440" cy="1049760"/>
              </a:xfrm>
            </p:grpSpPr>
            <p:sp>
              <p:nvSpPr>
                <p:cNvPr id="218" name=""/>
                <p:cNvSpPr/>
                <p:nvPr/>
              </p:nvSpPr>
              <p:spPr>
                <a:xfrm>
                  <a:off x="6863400" y="580104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778800" y="580104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 name=""/>
            <p:cNvSpPr/>
            <p:nvPr/>
          </p:nvSpPr>
          <p:spPr>
            <a:xfrm>
              <a:off x="0" y="0"/>
              <a:ext cx="883872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1" name=""/>
          <p:cNvSpPr/>
          <p:nvPr/>
        </p:nvSpPr>
        <p:spPr>
          <a:xfrm>
            <a:off x="0" y="5638680"/>
            <a:ext cx="91440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oua zi, ruperea tegumentul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2" name="apa de izvor a doua zi ruperea tegumentului" descr=""/>
          <p:cNvPicPr/>
          <p:nvPr/>
        </p:nvPicPr>
        <p:blipFill>
          <a:blip r:embed="rId1"/>
          <a:stretch/>
        </p:blipFill>
        <p:spPr>
          <a:xfrm>
            <a:off x="762120" y="533520"/>
            <a:ext cx="7467480" cy="518148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3" name=""/>
          <p:cNvSpPr/>
          <p:nvPr/>
        </p:nvSpPr>
        <p:spPr>
          <a:xfrm>
            <a:off x="0" y="160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apa de izvor a 2-a zi radacinita" descr=""/>
          <p:cNvPicPr/>
          <p:nvPr/>
        </p:nvPicPr>
        <p:blipFill>
          <a:blip r:embed="rId1"/>
          <a:stretch/>
        </p:blipFill>
        <p:spPr>
          <a:xfrm>
            <a:off x="609480" y="304920"/>
            <a:ext cx="7162920" cy="5181480"/>
          </a:xfrm>
          <a:prstGeom prst="rect">
            <a:avLst/>
          </a:prstGeom>
          <a:ln w="0">
            <a:noFill/>
          </a:ln>
        </p:spPr>
      </p:pic>
      <p:sp>
        <p:nvSpPr>
          <p:cNvPr id="225" name=""/>
          <p:cNvSpPr/>
          <p:nvPr/>
        </p:nvSpPr>
        <p:spPr>
          <a:xfrm>
            <a:off x="0" y="57150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2.a  doua zi, aparitia radicule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6" name=""/>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3.a treia zi, aparitia perisorilor absorbant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apa de izvor a treia zi radacinita" descr=""/>
          <p:cNvPicPr/>
          <p:nvPr/>
        </p:nvPicPr>
        <p:blipFill>
          <a:blip r:embed="rId1"/>
          <a:stretch/>
        </p:blipFill>
        <p:spPr>
          <a:xfrm>
            <a:off x="1143000" y="685800"/>
            <a:ext cx="7086600" cy="502920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8" name=""/>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4.aparita radacinil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9" name="apa de izvora 3-a zi peri absorbanti" descr=""/>
          <p:cNvPicPr/>
          <p:nvPr/>
        </p:nvPicPr>
        <p:blipFill>
          <a:blip r:embed="rId1"/>
          <a:stretch/>
        </p:blipFill>
        <p:spPr>
          <a:xfrm>
            <a:off x="533520" y="533520"/>
            <a:ext cx="7315200" cy="4867200"/>
          </a:xfrm>
          <a:prstGeom prst="rect">
            <a:avLst/>
          </a:prstGeom>
          <a:ln w="0">
            <a:noFill/>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0" name=""/>
          <p:cNvSpPr/>
          <p:nvPr/>
        </p:nvSpPr>
        <p:spPr>
          <a:xfrm>
            <a:off x="0" y="11779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231" name="apa de izvor a 5-a zi tulpinita" descr=""/>
          <p:cNvPicPr/>
          <p:nvPr/>
        </p:nvPicPr>
        <p:blipFill>
          <a:blip r:embed="rId1"/>
          <a:stretch/>
        </p:blipFill>
        <p:spPr>
          <a:xfrm>
            <a:off x="838080" y="457200"/>
            <a:ext cx="7162920" cy="5248440"/>
          </a:xfrm>
          <a:prstGeom prst="rect">
            <a:avLst/>
          </a:prstGeom>
          <a:ln w="0">
            <a:noFill/>
          </a:ln>
        </p:spPr>
      </p:pic>
      <p:sp>
        <p:nvSpPr>
          <p:cNvPr id="232" name=""/>
          <p:cNvSpPr/>
          <p:nvPr/>
        </p:nvSpPr>
        <p:spPr>
          <a:xfrm>
            <a:off x="0" y="60958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5. aparitia tulpinilor si a primelor frunz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3" name=""/>
          <p:cNvSpPr/>
          <p:nvPr/>
        </p:nvSpPr>
        <p:spPr>
          <a:xfrm>
            <a:off x="0" y="131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apa de izvor a 6-a zi frunzulita" descr=""/>
          <p:cNvPicPr/>
          <p:nvPr/>
        </p:nvPicPr>
        <p:blipFill>
          <a:blip r:embed="rId1"/>
          <a:stretch/>
        </p:blipFill>
        <p:spPr>
          <a:xfrm>
            <a:off x="990720" y="304920"/>
            <a:ext cx="7315200" cy="5181480"/>
          </a:xfrm>
          <a:prstGeom prst="rect">
            <a:avLst/>
          </a:prstGeom>
          <a:ln w="0">
            <a:noFill/>
          </a:ln>
        </p:spPr>
      </p:pic>
      <p:sp>
        <p:nvSpPr>
          <p:cNvPr id="235" name=""/>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ezvoltarea tulpini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6" name=""/>
          <p:cNvSpPr/>
          <p:nvPr/>
        </p:nvSpPr>
        <p:spPr>
          <a:xfrm>
            <a:off x="0" y="5867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7. tulpnina de 25 c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apa de izvor a 15-a zi tulpina" descr=""/>
          <p:cNvPicPr/>
          <p:nvPr/>
        </p:nvPicPr>
        <p:blipFill>
          <a:blip r:embed="rId1"/>
          <a:stretch/>
        </p:blipFill>
        <p:spPr>
          <a:xfrm>
            <a:off x="838080" y="457200"/>
            <a:ext cx="7239240" cy="5019840"/>
          </a:xfrm>
          <a:prstGeom prst="rect">
            <a:avLst/>
          </a:prstGeom>
          <a:ln w="0">
            <a:noFill/>
          </a:ln>
        </p:spPr>
      </p:pic>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ZII</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Numarul semintelor germinate cu apa de izvor este mai mare decat </a:t>
            </a:r>
            <a:r>
              <a:rPr b="0" lang="en-US" sz="3200" spc="-1" strike="noStrike">
                <a:solidFill>
                  <a:srgbClr val="000000"/>
                </a:solidFill>
                <a:latin typeface="Times New Roman"/>
              </a:rPr>
              <a:t>al celor </a:t>
            </a:r>
            <a:r>
              <a:rPr b="0" lang="ro-RO" sz="3200" spc="-1" strike="noStrike">
                <a:solidFill>
                  <a:srgbClr val="000000"/>
                </a:solidFill>
                <a:latin typeface="Times New Roman"/>
              </a:rPr>
              <a:t> cu apa de robinet si cu apa plat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azele germinatiei se desfasoara mai repede la semintele udate cu apa de izvo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emintele udate cu apa plata au aceeasi rata de dezvoltare ca si cele udate cu apa de la robi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ATUIREA SEMINTEI</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GUMENTUL SEMINAL-este invelisul protector al semintei care apara embrionul de intemperii, pastrandu-I astfel timp indelungat capacitatea de germinar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ILUL este o adancitura caracteristica (cicatrice) ramasa dupa dezlipirea semintei de pe  funicul;</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ICROPILUL apare sub forma unei ridicaturi cu un por in mijloc. Prin zona micropilului, radicula embrionului va sparge integumentul in timpul incoltirii;</a:t>
            </a:r>
            <a:endParaRPr b="0" lang="en-US" sz="28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fr-FR" sz="2400" spc="-1" strike="noStrike">
                <a:solidFill>
                  <a:srgbClr val="000000"/>
                </a:solidFill>
                <a:latin typeface="Times New Roman"/>
              </a:rPr>
              <a:t>PUTEREA DE GERMINATIE A SEMINTELOR</a:t>
            </a:r>
            <a:r>
              <a:rPr b="0" lang="fr-FR" sz="2800" spc="-1" strike="noStrike">
                <a:solidFill>
                  <a:srgbClr val="000000"/>
                </a:solidFill>
                <a:latin typeface="Times New Roman"/>
              </a:rPr>
              <a:t>  </a:t>
            </a:r>
            <a:br>
              <a:rPr sz="2800"/>
            </a:br>
            <a:r>
              <a:rPr b="0" lang="fr-FR" sz="4400" spc="-1" strike="noStrike" u="sng">
                <a:solidFill>
                  <a:srgbClr val="000000"/>
                </a:solidFill>
                <a:uFillTx/>
                <a:latin typeface="Times New Roman"/>
              </a:rPr>
              <a:t> </a:t>
            </a:r>
            <a:br>
              <a:rPr sz="4400"/>
            </a:br>
            <a:endParaRPr b="0" lang="en-US" sz="4400" spc="-1" strike="noStrike">
              <a:solidFill>
                <a:srgbClr val="000000"/>
              </a:solidFill>
              <a:latin typeface="Times New Roman"/>
            </a:endParaRPr>
          </a:p>
        </p:txBody>
      </p:sp>
      <p:sp>
        <p:nvSpPr>
          <p:cNvPr id="24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Materiale necesare</a:t>
            </a:r>
            <a:r>
              <a:rPr b="0" lang="fr-FR" sz="2800" spc="-1" strike="noStrike">
                <a:solidFill>
                  <a:srgbClr val="000000"/>
                </a:solidFill>
                <a:latin typeface="Times New Roman"/>
              </a:rPr>
              <a:t>: vase Petri, vata, seminte de fasolede un an si de 3 ani;</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Modul de lucru</a:t>
            </a:r>
            <a:r>
              <a:rPr b="0" lang="fr-FR"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uprafata de vata se imparte in 100 de patratele si pe fiecare patratel se aseaza o samanta de un an, iar pe o suprafata similara se monteaza experienta cu seminte vechi de 3 ani.-se umezeste substratul,  si se acopera cu capace astfel incat sa se evite uscarea;-  se pun la incoltit in conditii optime de umiditate, temperatura (25-35 grade celsius);-  se controleaza zilnic si se considera germinate semintele care au radicula egala cu lungimea semintei, iar tulpinita jumatate din lungimea semintei;- dupa 10 zile se numara semintele germinate normal pentru fiecare vas;-Se calculeaza puterea de germinatie pentru fiecare cutie, se raporteaza numarul semintelor germinate normal la 100 ;</a:t>
            </a:r>
            <a:endParaRPr b="0" lang="en-US" sz="2800" spc="-1" strike="noStrike">
              <a:solidFill>
                <a:srgbClr val="000000"/>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242" name=""/>
          <p:cNvGrpSpPr/>
          <p:nvPr/>
        </p:nvGrpSpPr>
        <p:grpSpPr>
          <a:xfrm>
            <a:off x="0" y="228600"/>
            <a:ext cx="9143640" cy="6629040"/>
            <a:chOff x="0" y="228600"/>
            <a:chExt cx="9143640" cy="6629040"/>
          </a:xfrm>
        </p:grpSpPr>
        <p:grpSp>
          <p:nvGrpSpPr>
            <p:cNvPr id="243" name=""/>
            <p:cNvGrpSpPr/>
            <p:nvPr/>
          </p:nvGrpSpPr>
          <p:grpSpPr>
            <a:xfrm>
              <a:off x="6120" y="234720"/>
              <a:ext cx="9130320" cy="6615000"/>
              <a:chOff x="6120" y="234720"/>
              <a:chExt cx="9130320" cy="6615000"/>
            </a:xfrm>
          </p:grpSpPr>
          <p:grpSp>
            <p:nvGrpSpPr>
              <p:cNvPr id="244" name=""/>
              <p:cNvGrpSpPr/>
              <p:nvPr/>
            </p:nvGrpSpPr>
            <p:grpSpPr>
              <a:xfrm>
                <a:off x="6120" y="234720"/>
                <a:ext cx="2242440" cy="1346760"/>
                <a:chOff x="6120" y="234720"/>
                <a:chExt cx="2242440" cy="1346760"/>
              </a:xfrm>
            </p:grpSpPr>
            <p:sp>
              <p:nvSpPr>
                <p:cNvPr id="245" name=""/>
                <p:cNvSpPr/>
                <p:nvPr/>
              </p:nvSpPr>
              <p:spPr>
                <a:xfrm>
                  <a:off x="95400" y="234720"/>
                  <a:ext cx="20635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azele germinatie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6120" y="234720"/>
                  <a:ext cx="22424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248920" y="234720"/>
                <a:ext cx="1658520" cy="1346760"/>
                <a:chOff x="2248920" y="234720"/>
                <a:chExt cx="1658520" cy="1346760"/>
              </a:xfrm>
            </p:grpSpPr>
            <p:sp>
              <p:nvSpPr>
                <p:cNvPr id="248" name=""/>
                <p:cNvSpPr/>
                <p:nvPr/>
              </p:nvSpPr>
              <p:spPr>
                <a:xfrm>
                  <a:off x="2337840" y="234720"/>
                  <a:ext cx="14803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noi 100 bucati-apa</a:t>
                  </a:r>
                  <a:r>
                    <a:rPr b="0" lang="ro-RO" sz="2400" spc="-1" strike="noStrike">
                      <a:solidFill>
                        <a:srgbClr val="000000"/>
                      </a:solidFill>
                      <a:latin typeface="Times New Roman"/>
                    </a:rPr>
                    <a:t> robin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248920" y="234720"/>
                  <a:ext cx="165852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908160" y="234720"/>
                <a:ext cx="1795680" cy="1346760"/>
                <a:chOff x="3908160" y="234720"/>
                <a:chExt cx="1795680" cy="1346760"/>
              </a:xfrm>
            </p:grpSpPr>
            <p:sp>
              <p:nvSpPr>
                <p:cNvPr id="251" name=""/>
                <p:cNvSpPr/>
                <p:nvPr/>
              </p:nvSpPr>
              <p:spPr>
                <a:xfrm>
                  <a:off x="3997080" y="234720"/>
                  <a:ext cx="161784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de 3 ani 100 de bucati- apa robin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3908160" y="234720"/>
                  <a:ext cx="179568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5704200" y="234720"/>
                <a:ext cx="1796040" cy="1346760"/>
                <a:chOff x="5704200" y="234720"/>
                <a:chExt cx="1796040" cy="1346760"/>
              </a:xfrm>
            </p:grpSpPr>
            <p:sp>
              <p:nvSpPr>
                <p:cNvPr id="254" name=""/>
                <p:cNvSpPr/>
                <p:nvPr/>
              </p:nvSpPr>
              <p:spPr>
                <a:xfrm>
                  <a:off x="5793480" y="234720"/>
                  <a:ext cx="16171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noi 100 de bucati- apa </a:t>
                  </a:r>
                  <a:r>
                    <a:rPr b="0" lang="en-US" sz="2000" spc="-1" strike="noStrike">
                      <a:solidFill>
                        <a:srgbClr val="000000"/>
                      </a:solidFill>
                      <a:latin typeface="Times New Roman"/>
                    </a:rPr>
                    <a:t>de izv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5704200" y="234720"/>
                  <a:ext cx="17960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500600" y="234720"/>
                <a:ext cx="1635840" cy="1346760"/>
                <a:chOff x="7500600" y="234720"/>
                <a:chExt cx="1635840" cy="1346760"/>
              </a:xfrm>
            </p:grpSpPr>
            <p:sp>
              <p:nvSpPr>
                <p:cNvPr id="257" name=""/>
                <p:cNvSpPr/>
                <p:nvPr/>
              </p:nvSpPr>
              <p:spPr>
                <a:xfrm>
                  <a:off x="7589520" y="234720"/>
                  <a:ext cx="145764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de trei ani 100 bucati -</a:t>
                  </a:r>
                  <a:r>
                    <a:rPr b="0" lang="ro-RO" sz="2400" spc="-1" strike="noStrike">
                      <a:solidFill>
                        <a:srgbClr val="000000"/>
                      </a:solidFill>
                      <a:latin typeface="Times New Roman"/>
                    </a:rPr>
                    <a:t>apa </a:t>
                  </a:r>
                  <a:r>
                    <a:rPr b="0" lang="en-US" sz="2400" spc="-1" strike="noStrike">
                      <a:solidFill>
                        <a:srgbClr val="000000"/>
                      </a:solidFill>
                      <a:latin typeface="Times New Roman"/>
                    </a:rPr>
                    <a:t>de izv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500600" y="234720"/>
                  <a:ext cx="16358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6120" y="1581840"/>
                <a:ext cx="2242440" cy="1347120"/>
                <a:chOff x="6120" y="1581840"/>
                <a:chExt cx="2242440" cy="1347120"/>
              </a:xfrm>
            </p:grpSpPr>
            <p:sp>
              <p:nvSpPr>
                <p:cNvPr id="260" name=""/>
                <p:cNvSpPr/>
                <p:nvPr/>
              </p:nvSpPr>
              <p:spPr>
                <a:xfrm>
                  <a:off x="95400" y="1581840"/>
                  <a:ext cx="20635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000" spc="-1" strike="noStrike">
                      <a:solidFill>
                        <a:srgbClr val="000000"/>
                      </a:solidFill>
                      <a:latin typeface="Times New Roman"/>
                    </a:rPr>
                    <a:t>.Ziua si ora la care au fost puse la germin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6120" y="1581840"/>
                  <a:ext cx="22424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248920" y="1581840"/>
                <a:ext cx="1658520" cy="1347120"/>
                <a:chOff x="2248920" y="1581840"/>
                <a:chExt cx="1658520" cy="1347120"/>
              </a:xfrm>
            </p:grpSpPr>
            <p:sp>
              <p:nvSpPr>
                <p:cNvPr id="263" name=""/>
                <p:cNvSpPr/>
                <p:nvPr/>
              </p:nvSpPr>
              <p:spPr>
                <a:xfrm>
                  <a:off x="2337840" y="1581840"/>
                  <a:ext cx="14803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2248920" y="1581840"/>
                  <a:ext cx="165852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908160" y="1581840"/>
                <a:ext cx="1795680" cy="1347120"/>
                <a:chOff x="3908160" y="1581840"/>
                <a:chExt cx="1795680" cy="1347120"/>
              </a:xfrm>
            </p:grpSpPr>
            <p:sp>
              <p:nvSpPr>
                <p:cNvPr id="266" name=""/>
                <p:cNvSpPr/>
                <p:nvPr/>
              </p:nvSpPr>
              <p:spPr>
                <a:xfrm>
                  <a:off x="3997080" y="1581840"/>
                  <a:ext cx="161784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2009 ora  17si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3908160" y="1581840"/>
                  <a:ext cx="179568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704200" y="1581840"/>
                <a:ext cx="1796040" cy="1347120"/>
                <a:chOff x="5704200" y="1581840"/>
                <a:chExt cx="1796040" cy="1347120"/>
              </a:xfrm>
            </p:grpSpPr>
            <p:sp>
              <p:nvSpPr>
                <p:cNvPr id="269" name=""/>
                <p:cNvSpPr/>
                <p:nvPr/>
              </p:nvSpPr>
              <p:spPr>
                <a:xfrm>
                  <a:off x="5793480" y="1581840"/>
                  <a:ext cx="16171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5704200" y="1581840"/>
                  <a:ext cx="17960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7500600" y="1581840"/>
                <a:ext cx="1635840" cy="1347120"/>
                <a:chOff x="7500600" y="1581840"/>
                <a:chExt cx="1635840" cy="1347120"/>
              </a:xfrm>
            </p:grpSpPr>
            <p:sp>
              <p:nvSpPr>
                <p:cNvPr id="272" name=""/>
                <p:cNvSpPr/>
                <p:nvPr/>
              </p:nvSpPr>
              <p:spPr>
                <a:xfrm>
                  <a:off x="7589520" y="1581840"/>
                  <a:ext cx="145764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7500600" y="1581840"/>
                  <a:ext cx="16358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120" y="2929680"/>
                <a:ext cx="2242440" cy="1101960"/>
                <a:chOff x="6120" y="2929680"/>
                <a:chExt cx="2242440" cy="1101960"/>
              </a:xfrm>
            </p:grpSpPr>
            <p:sp>
              <p:nvSpPr>
                <p:cNvPr id="275" name=""/>
                <p:cNvSpPr/>
                <p:nvPr/>
              </p:nvSpPr>
              <p:spPr>
                <a:xfrm>
                  <a:off x="95400" y="2929680"/>
                  <a:ext cx="20635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imbiba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20" y="2929680"/>
                  <a:ext cx="22424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2248920" y="2929680"/>
                <a:ext cx="1658520" cy="1101960"/>
                <a:chOff x="2248920" y="2929680"/>
                <a:chExt cx="1658520" cy="1101960"/>
              </a:xfrm>
            </p:grpSpPr>
            <p:sp>
              <p:nvSpPr>
                <p:cNvPr id="278" name=""/>
                <p:cNvSpPr/>
                <p:nvPr/>
              </p:nvSpPr>
              <p:spPr>
                <a:xfrm>
                  <a:off x="2337840" y="2929680"/>
                  <a:ext cx="14803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48920" y="2929680"/>
                  <a:ext cx="165852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908160" y="2929680"/>
                <a:ext cx="1795680" cy="1101960"/>
                <a:chOff x="3908160" y="2929680"/>
                <a:chExt cx="1795680" cy="1101960"/>
              </a:xfrm>
            </p:grpSpPr>
            <p:sp>
              <p:nvSpPr>
                <p:cNvPr id="281" name=""/>
                <p:cNvSpPr/>
                <p:nvPr/>
              </p:nvSpPr>
              <p:spPr>
                <a:xfrm>
                  <a:off x="3997080" y="2929680"/>
                  <a:ext cx="16178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908160" y="2929680"/>
                  <a:ext cx="17956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704200" y="2929680"/>
                <a:ext cx="1796040" cy="1101960"/>
                <a:chOff x="5704200" y="2929680"/>
                <a:chExt cx="1796040" cy="1101960"/>
              </a:xfrm>
            </p:grpSpPr>
            <p:sp>
              <p:nvSpPr>
                <p:cNvPr id="284" name=""/>
                <p:cNvSpPr/>
                <p:nvPr/>
              </p:nvSpPr>
              <p:spPr>
                <a:xfrm>
                  <a:off x="5793480" y="2929680"/>
                  <a:ext cx="16171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5704200" y="2929680"/>
                  <a:ext cx="17960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7500600" y="2929680"/>
                <a:ext cx="1635840" cy="1101960"/>
                <a:chOff x="7500600" y="2929680"/>
                <a:chExt cx="1635840" cy="1101960"/>
              </a:xfrm>
            </p:grpSpPr>
            <p:sp>
              <p:nvSpPr>
                <p:cNvPr id="287" name=""/>
                <p:cNvSpPr/>
                <p:nvPr/>
              </p:nvSpPr>
              <p:spPr>
                <a:xfrm>
                  <a:off x="7589520" y="2929680"/>
                  <a:ext cx="14576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500600" y="2929680"/>
                  <a:ext cx="16358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120" y="4032360"/>
                <a:ext cx="2242440" cy="1101960"/>
                <a:chOff x="6120" y="4032360"/>
                <a:chExt cx="2242440" cy="1101960"/>
              </a:xfrm>
            </p:grpSpPr>
            <p:sp>
              <p:nvSpPr>
                <p:cNvPr id="290" name=""/>
                <p:cNvSpPr/>
                <p:nvPr/>
              </p:nvSpPr>
              <p:spPr>
                <a:xfrm>
                  <a:off x="95400" y="4032360"/>
                  <a:ext cx="20635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 Increti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120" y="4032360"/>
                  <a:ext cx="22424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2248920" y="4032360"/>
                <a:ext cx="1658520" cy="1101960"/>
                <a:chOff x="2248920" y="4032360"/>
                <a:chExt cx="1658520" cy="1101960"/>
              </a:xfrm>
            </p:grpSpPr>
            <p:sp>
              <p:nvSpPr>
                <p:cNvPr id="293" name=""/>
                <p:cNvSpPr/>
                <p:nvPr/>
              </p:nvSpPr>
              <p:spPr>
                <a:xfrm>
                  <a:off x="2337840" y="4032360"/>
                  <a:ext cx="14803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48920" y="4032360"/>
                  <a:ext cx="165852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908160" y="4032360"/>
                <a:ext cx="1795680" cy="1101960"/>
                <a:chOff x="3908160" y="4032360"/>
                <a:chExt cx="1795680" cy="1101960"/>
              </a:xfrm>
            </p:grpSpPr>
            <p:sp>
              <p:nvSpPr>
                <p:cNvPr id="296" name=""/>
                <p:cNvSpPr/>
                <p:nvPr/>
              </p:nvSpPr>
              <p:spPr>
                <a:xfrm>
                  <a:off x="3997080" y="4032360"/>
                  <a:ext cx="16178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908160" y="4032360"/>
                  <a:ext cx="17956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5704200" y="4032360"/>
                <a:ext cx="1796040" cy="1101960"/>
                <a:chOff x="5704200" y="4032360"/>
                <a:chExt cx="1796040" cy="1101960"/>
              </a:xfrm>
            </p:grpSpPr>
            <p:sp>
              <p:nvSpPr>
                <p:cNvPr id="299" name=""/>
                <p:cNvSpPr/>
                <p:nvPr/>
              </p:nvSpPr>
              <p:spPr>
                <a:xfrm>
                  <a:off x="5793480" y="4032360"/>
                  <a:ext cx="16171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704200" y="4032360"/>
                  <a:ext cx="17960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7500600" y="4032360"/>
                <a:ext cx="1635840" cy="1101960"/>
                <a:chOff x="7500600" y="4032360"/>
                <a:chExt cx="1635840" cy="1101960"/>
              </a:xfrm>
            </p:grpSpPr>
            <p:sp>
              <p:nvSpPr>
                <p:cNvPr id="302" name=""/>
                <p:cNvSpPr/>
                <p:nvPr/>
              </p:nvSpPr>
              <p:spPr>
                <a:xfrm>
                  <a:off x="7589520" y="4032360"/>
                  <a:ext cx="14576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500600" y="4032360"/>
                  <a:ext cx="16358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120" y="5134680"/>
                <a:ext cx="2242440" cy="857160"/>
                <a:chOff x="6120" y="5134680"/>
                <a:chExt cx="2242440" cy="857160"/>
              </a:xfrm>
            </p:grpSpPr>
            <p:sp>
              <p:nvSpPr>
                <p:cNvPr id="305" name=""/>
                <p:cNvSpPr/>
                <p:nvPr/>
              </p:nvSpPr>
              <p:spPr>
                <a:xfrm>
                  <a:off x="95400" y="5134680"/>
                  <a:ext cx="20635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Rupe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20" y="5134680"/>
                  <a:ext cx="22424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2248920" y="5134680"/>
                <a:ext cx="1658520" cy="857160"/>
                <a:chOff x="2248920" y="5134680"/>
                <a:chExt cx="1658520" cy="857160"/>
              </a:xfrm>
            </p:grpSpPr>
            <p:sp>
              <p:nvSpPr>
                <p:cNvPr id="308" name=""/>
                <p:cNvSpPr/>
                <p:nvPr/>
              </p:nvSpPr>
              <p:spPr>
                <a:xfrm>
                  <a:off x="2337840" y="5134680"/>
                  <a:ext cx="14803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248920" y="5134680"/>
                  <a:ext cx="165852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908160" y="5134680"/>
                <a:ext cx="1795680" cy="857160"/>
                <a:chOff x="3908160" y="5134680"/>
                <a:chExt cx="1795680" cy="857160"/>
              </a:xfrm>
            </p:grpSpPr>
            <p:sp>
              <p:nvSpPr>
                <p:cNvPr id="311" name=""/>
                <p:cNvSpPr/>
                <p:nvPr/>
              </p:nvSpPr>
              <p:spPr>
                <a:xfrm>
                  <a:off x="3997080" y="5134680"/>
                  <a:ext cx="16178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908160" y="5134680"/>
                  <a:ext cx="179568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704200" y="5134680"/>
                <a:ext cx="1796040" cy="857160"/>
                <a:chOff x="5704200" y="5134680"/>
                <a:chExt cx="1796040" cy="857160"/>
              </a:xfrm>
            </p:grpSpPr>
            <p:sp>
              <p:nvSpPr>
                <p:cNvPr id="314" name=""/>
                <p:cNvSpPr/>
                <p:nvPr/>
              </p:nvSpPr>
              <p:spPr>
                <a:xfrm>
                  <a:off x="5793480" y="5134680"/>
                  <a:ext cx="16171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704200" y="5134680"/>
                  <a:ext cx="17960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500600" y="5134680"/>
                <a:ext cx="1635840" cy="857160"/>
                <a:chOff x="7500600" y="5134680"/>
                <a:chExt cx="1635840" cy="857160"/>
              </a:xfrm>
            </p:grpSpPr>
            <p:sp>
              <p:nvSpPr>
                <p:cNvPr id="317" name=""/>
                <p:cNvSpPr/>
                <p:nvPr/>
              </p:nvSpPr>
              <p:spPr>
                <a:xfrm>
                  <a:off x="7589520" y="5134680"/>
                  <a:ext cx="14576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500600" y="5134680"/>
                  <a:ext cx="16358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6120" y="5992560"/>
                <a:ext cx="2242440" cy="857160"/>
                <a:chOff x="6120" y="5992560"/>
                <a:chExt cx="2242440" cy="857160"/>
              </a:xfrm>
            </p:grpSpPr>
            <p:sp>
              <p:nvSpPr>
                <p:cNvPr id="320" name=""/>
                <p:cNvSpPr/>
                <p:nvPr/>
              </p:nvSpPr>
              <p:spPr>
                <a:xfrm>
                  <a:off x="95400" y="5992560"/>
                  <a:ext cx="20635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pariti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120" y="5992560"/>
                  <a:ext cx="22424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248920" y="5992560"/>
                <a:ext cx="1658520" cy="857160"/>
                <a:chOff x="2248920" y="5992560"/>
                <a:chExt cx="1658520" cy="857160"/>
              </a:xfrm>
            </p:grpSpPr>
            <p:sp>
              <p:nvSpPr>
                <p:cNvPr id="323" name=""/>
                <p:cNvSpPr/>
                <p:nvPr/>
              </p:nvSpPr>
              <p:spPr>
                <a:xfrm>
                  <a:off x="2337840" y="5992560"/>
                  <a:ext cx="14803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48920" y="5992560"/>
                  <a:ext cx="165852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3908160" y="5992560"/>
                <a:ext cx="1795680" cy="857160"/>
                <a:chOff x="3908160" y="5992560"/>
                <a:chExt cx="1795680" cy="857160"/>
              </a:xfrm>
            </p:grpSpPr>
            <p:sp>
              <p:nvSpPr>
                <p:cNvPr id="326" name=""/>
                <p:cNvSpPr/>
                <p:nvPr/>
              </p:nvSpPr>
              <p:spPr>
                <a:xfrm>
                  <a:off x="3997080" y="5992560"/>
                  <a:ext cx="16178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908160" y="5992560"/>
                  <a:ext cx="179568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704200" y="5992560"/>
                <a:ext cx="1796040" cy="857160"/>
                <a:chOff x="5704200" y="5992560"/>
                <a:chExt cx="1796040" cy="857160"/>
              </a:xfrm>
            </p:grpSpPr>
            <p:sp>
              <p:nvSpPr>
                <p:cNvPr id="329" name=""/>
                <p:cNvSpPr/>
                <p:nvPr/>
              </p:nvSpPr>
              <p:spPr>
                <a:xfrm>
                  <a:off x="5793480" y="5992560"/>
                  <a:ext cx="16171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zile si 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704200" y="5992560"/>
                  <a:ext cx="17960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500600" y="5992560"/>
                <a:ext cx="1635840" cy="857160"/>
                <a:chOff x="7500600" y="5992560"/>
                <a:chExt cx="1635840" cy="857160"/>
              </a:xfrm>
            </p:grpSpPr>
            <p:sp>
              <p:nvSpPr>
                <p:cNvPr id="332" name=""/>
                <p:cNvSpPr/>
                <p:nvPr/>
              </p:nvSpPr>
              <p:spPr>
                <a:xfrm>
                  <a:off x="7589520" y="5992560"/>
                  <a:ext cx="14576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8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500600" y="5992560"/>
                  <a:ext cx="16358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4" name=""/>
            <p:cNvSpPr/>
            <p:nvPr/>
          </p:nvSpPr>
          <p:spPr>
            <a:xfrm>
              <a:off x="0" y="228600"/>
              <a:ext cx="9143640" cy="662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335" name=""/>
          <p:cNvGrpSpPr/>
          <p:nvPr/>
        </p:nvGrpSpPr>
        <p:grpSpPr>
          <a:xfrm>
            <a:off x="0" y="304920"/>
            <a:ext cx="9143640" cy="6324120"/>
            <a:chOff x="0" y="304920"/>
            <a:chExt cx="9143640" cy="6324120"/>
          </a:xfrm>
        </p:grpSpPr>
        <p:grpSp>
          <p:nvGrpSpPr>
            <p:cNvPr id="336" name=""/>
            <p:cNvGrpSpPr/>
            <p:nvPr/>
          </p:nvGrpSpPr>
          <p:grpSpPr>
            <a:xfrm>
              <a:off x="6120" y="311040"/>
              <a:ext cx="9130320" cy="6310080"/>
              <a:chOff x="6120" y="311040"/>
              <a:chExt cx="9130320" cy="6310080"/>
            </a:xfrm>
          </p:grpSpPr>
          <p:grpSp>
            <p:nvGrpSpPr>
              <p:cNvPr id="337" name=""/>
              <p:cNvGrpSpPr/>
              <p:nvPr/>
            </p:nvGrpSpPr>
            <p:grpSpPr>
              <a:xfrm>
                <a:off x="6120" y="311040"/>
                <a:ext cx="2242440" cy="1135080"/>
                <a:chOff x="6120" y="311040"/>
                <a:chExt cx="2242440" cy="1135080"/>
              </a:xfrm>
            </p:grpSpPr>
            <p:sp>
              <p:nvSpPr>
                <p:cNvPr id="338" name=""/>
                <p:cNvSpPr/>
                <p:nvPr/>
              </p:nvSpPr>
              <p:spPr>
                <a:xfrm>
                  <a:off x="95400" y="3110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6.Aparitia perilor absorba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20" y="3110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2248920" y="311040"/>
                <a:ext cx="1658520" cy="1135080"/>
                <a:chOff x="2248920" y="311040"/>
                <a:chExt cx="1658520" cy="1135080"/>
              </a:xfrm>
            </p:grpSpPr>
            <p:sp>
              <p:nvSpPr>
                <p:cNvPr id="341" name=""/>
                <p:cNvSpPr/>
                <p:nvPr/>
              </p:nvSpPr>
              <p:spPr>
                <a:xfrm>
                  <a:off x="2337840" y="3110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248920" y="3110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908160" y="311040"/>
                <a:ext cx="1795680" cy="1135080"/>
                <a:chOff x="3908160" y="311040"/>
                <a:chExt cx="1795680" cy="1135080"/>
              </a:xfrm>
            </p:grpSpPr>
            <p:sp>
              <p:nvSpPr>
                <p:cNvPr id="344" name=""/>
                <p:cNvSpPr/>
                <p:nvPr/>
              </p:nvSpPr>
              <p:spPr>
                <a:xfrm>
                  <a:off x="3997080" y="3110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908160" y="3110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704200" y="311040"/>
                <a:ext cx="1796040" cy="1135080"/>
                <a:chOff x="5704200" y="311040"/>
                <a:chExt cx="1796040" cy="1135080"/>
              </a:xfrm>
            </p:grpSpPr>
            <p:sp>
              <p:nvSpPr>
                <p:cNvPr id="347" name=""/>
                <p:cNvSpPr/>
                <p:nvPr/>
              </p:nvSpPr>
              <p:spPr>
                <a:xfrm>
                  <a:off x="5793480" y="3110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704200" y="3110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500600" y="311040"/>
                <a:ext cx="1635840" cy="1135080"/>
                <a:chOff x="7500600" y="311040"/>
                <a:chExt cx="1635840" cy="1135080"/>
              </a:xfrm>
            </p:grpSpPr>
            <p:sp>
              <p:nvSpPr>
                <p:cNvPr id="350" name=""/>
                <p:cNvSpPr/>
                <p:nvPr/>
              </p:nvSpPr>
              <p:spPr>
                <a:xfrm>
                  <a:off x="7589520" y="3110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500600" y="3110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0" y="1446480"/>
                <a:ext cx="2242440" cy="883080"/>
                <a:chOff x="6120" y="1446480"/>
                <a:chExt cx="2242440" cy="883080"/>
              </a:xfrm>
            </p:grpSpPr>
            <p:sp>
              <p:nvSpPr>
                <p:cNvPr id="353" name=""/>
                <p:cNvSpPr/>
                <p:nvPr/>
              </p:nvSpPr>
              <p:spPr>
                <a:xfrm>
                  <a:off x="95400" y="1446480"/>
                  <a:ext cx="20635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7.Orientare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120" y="1446480"/>
                  <a:ext cx="22424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248920" y="1446480"/>
                <a:ext cx="1658520" cy="883080"/>
                <a:chOff x="2248920" y="1446480"/>
                <a:chExt cx="1658520" cy="883080"/>
              </a:xfrm>
            </p:grpSpPr>
            <p:sp>
              <p:nvSpPr>
                <p:cNvPr id="356" name=""/>
                <p:cNvSpPr/>
                <p:nvPr/>
              </p:nvSpPr>
              <p:spPr>
                <a:xfrm>
                  <a:off x="2337840" y="1446480"/>
                  <a:ext cx="14803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2248920" y="1446480"/>
                  <a:ext cx="165852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3908160" y="1446480"/>
                <a:ext cx="1795680" cy="883080"/>
                <a:chOff x="3908160" y="1446480"/>
                <a:chExt cx="1795680" cy="883080"/>
              </a:xfrm>
            </p:grpSpPr>
            <p:sp>
              <p:nvSpPr>
                <p:cNvPr id="359" name=""/>
                <p:cNvSpPr/>
                <p:nvPr/>
              </p:nvSpPr>
              <p:spPr>
                <a:xfrm>
                  <a:off x="3997080" y="1446480"/>
                  <a:ext cx="16178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3908160" y="1446480"/>
                  <a:ext cx="179568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704200" y="1446480"/>
                <a:ext cx="1796040" cy="883080"/>
                <a:chOff x="5704200" y="1446480"/>
                <a:chExt cx="1796040" cy="883080"/>
              </a:xfrm>
            </p:grpSpPr>
            <p:sp>
              <p:nvSpPr>
                <p:cNvPr id="362" name=""/>
                <p:cNvSpPr/>
                <p:nvPr/>
              </p:nvSpPr>
              <p:spPr>
                <a:xfrm>
                  <a:off x="5793480" y="1446480"/>
                  <a:ext cx="16171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5704200" y="1446480"/>
                  <a:ext cx="17960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500600" y="1446480"/>
                <a:ext cx="1635840" cy="883080"/>
                <a:chOff x="7500600" y="1446480"/>
                <a:chExt cx="1635840" cy="883080"/>
              </a:xfrm>
            </p:grpSpPr>
            <p:sp>
              <p:nvSpPr>
                <p:cNvPr id="365" name=""/>
                <p:cNvSpPr/>
                <p:nvPr/>
              </p:nvSpPr>
              <p:spPr>
                <a:xfrm>
                  <a:off x="7589520" y="1446480"/>
                  <a:ext cx="14576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7500600" y="1446480"/>
                  <a:ext cx="16358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120" y="2330280"/>
                <a:ext cx="2242440" cy="883080"/>
                <a:chOff x="6120" y="2330280"/>
                <a:chExt cx="2242440" cy="883080"/>
              </a:xfrm>
            </p:grpSpPr>
            <p:sp>
              <p:nvSpPr>
                <p:cNvPr id="368" name=""/>
                <p:cNvSpPr/>
                <p:nvPr/>
              </p:nvSpPr>
              <p:spPr>
                <a:xfrm>
                  <a:off x="95400" y="2330280"/>
                  <a:ext cx="20635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8.Aparitia tulp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120" y="2330280"/>
                  <a:ext cx="22424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2248920" y="2330280"/>
                <a:ext cx="1658520" cy="883080"/>
                <a:chOff x="2248920" y="2330280"/>
                <a:chExt cx="1658520" cy="883080"/>
              </a:xfrm>
            </p:grpSpPr>
            <p:sp>
              <p:nvSpPr>
                <p:cNvPr id="371" name=""/>
                <p:cNvSpPr/>
                <p:nvPr/>
              </p:nvSpPr>
              <p:spPr>
                <a:xfrm>
                  <a:off x="2337840" y="2330280"/>
                  <a:ext cx="14803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7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2248920" y="2330280"/>
                  <a:ext cx="165852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3908160" y="2330280"/>
                <a:ext cx="1795680" cy="883080"/>
                <a:chOff x="3908160" y="2330280"/>
                <a:chExt cx="1795680" cy="883080"/>
              </a:xfrm>
            </p:grpSpPr>
            <p:sp>
              <p:nvSpPr>
                <p:cNvPr id="374" name=""/>
                <p:cNvSpPr/>
                <p:nvPr/>
              </p:nvSpPr>
              <p:spPr>
                <a:xfrm>
                  <a:off x="3997080" y="2330280"/>
                  <a:ext cx="16178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0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3908160" y="2330280"/>
                  <a:ext cx="179568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704200" y="2330280"/>
                <a:ext cx="1796040" cy="883080"/>
                <a:chOff x="5704200" y="2330280"/>
                <a:chExt cx="1796040" cy="883080"/>
              </a:xfrm>
            </p:grpSpPr>
            <p:sp>
              <p:nvSpPr>
                <p:cNvPr id="377" name=""/>
                <p:cNvSpPr/>
                <p:nvPr/>
              </p:nvSpPr>
              <p:spPr>
                <a:xfrm>
                  <a:off x="5793480" y="2330280"/>
                  <a:ext cx="16171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704200" y="2330280"/>
                  <a:ext cx="17960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7500600" y="2330280"/>
                <a:ext cx="1635840" cy="883080"/>
                <a:chOff x="7500600" y="2330280"/>
                <a:chExt cx="1635840" cy="883080"/>
              </a:xfrm>
            </p:grpSpPr>
            <p:sp>
              <p:nvSpPr>
                <p:cNvPr id="380" name=""/>
                <p:cNvSpPr/>
                <p:nvPr/>
              </p:nvSpPr>
              <p:spPr>
                <a:xfrm>
                  <a:off x="7589520" y="2330280"/>
                  <a:ext cx="14576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500600" y="2330280"/>
                  <a:ext cx="16358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6120" y="3214080"/>
                <a:ext cx="2242440" cy="1135800"/>
                <a:chOff x="6120" y="3214080"/>
                <a:chExt cx="2242440" cy="1135800"/>
              </a:xfrm>
            </p:grpSpPr>
            <p:sp>
              <p:nvSpPr>
                <p:cNvPr id="383" name=""/>
                <p:cNvSpPr/>
                <p:nvPr/>
              </p:nvSpPr>
              <p:spPr>
                <a:xfrm>
                  <a:off x="95400" y="3214080"/>
                  <a:ext cx="20635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9.Aparitia primelor frunz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120" y="3214080"/>
                  <a:ext cx="22424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248920" y="3214080"/>
                <a:ext cx="1658520" cy="1135800"/>
                <a:chOff x="2248920" y="3214080"/>
                <a:chExt cx="1658520" cy="1135800"/>
              </a:xfrm>
            </p:grpSpPr>
            <p:sp>
              <p:nvSpPr>
                <p:cNvPr id="386" name=""/>
                <p:cNvSpPr/>
                <p:nvPr/>
              </p:nvSpPr>
              <p:spPr>
                <a:xfrm>
                  <a:off x="2337840" y="3214080"/>
                  <a:ext cx="14803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8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2248920" y="3214080"/>
                  <a:ext cx="16585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08160" y="3214080"/>
                <a:ext cx="1795680" cy="1135800"/>
                <a:chOff x="3908160" y="3214080"/>
                <a:chExt cx="1795680" cy="1135800"/>
              </a:xfrm>
            </p:grpSpPr>
            <p:sp>
              <p:nvSpPr>
                <p:cNvPr id="389" name=""/>
                <p:cNvSpPr/>
                <p:nvPr/>
              </p:nvSpPr>
              <p:spPr>
                <a:xfrm>
                  <a:off x="3997080" y="3214080"/>
                  <a:ext cx="161784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9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3908160" y="3214080"/>
                  <a:ext cx="179568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704200" y="3214080"/>
                <a:ext cx="1796040" cy="1135800"/>
                <a:chOff x="5704200" y="3214080"/>
                <a:chExt cx="1796040" cy="1135800"/>
              </a:xfrm>
            </p:grpSpPr>
            <p:sp>
              <p:nvSpPr>
                <p:cNvPr id="392" name=""/>
                <p:cNvSpPr/>
                <p:nvPr/>
              </p:nvSpPr>
              <p:spPr>
                <a:xfrm>
                  <a:off x="5793480" y="3214080"/>
                  <a:ext cx="16171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704200" y="3214080"/>
                  <a:ext cx="17960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500600" y="3214080"/>
                <a:ext cx="1635840" cy="1135800"/>
                <a:chOff x="7500600" y="3214080"/>
                <a:chExt cx="1635840" cy="1135800"/>
              </a:xfrm>
            </p:grpSpPr>
            <p:sp>
              <p:nvSpPr>
                <p:cNvPr id="395" name=""/>
                <p:cNvSpPr/>
                <p:nvPr/>
              </p:nvSpPr>
              <p:spPr>
                <a:xfrm>
                  <a:off x="7589520" y="3214080"/>
                  <a:ext cx="145764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500600" y="3214080"/>
                  <a:ext cx="16358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120" y="4350240"/>
                <a:ext cx="2242440" cy="1135080"/>
                <a:chOff x="6120" y="4350240"/>
                <a:chExt cx="2242440" cy="1135080"/>
              </a:xfrm>
            </p:grpSpPr>
            <p:sp>
              <p:nvSpPr>
                <p:cNvPr id="398" name=""/>
                <p:cNvSpPr/>
                <p:nvPr/>
              </p:nvSpPr>
              <p:spPr>
                <a:xfrm>
                  <a:off x="95400" y="43502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Orientarea cotiledoanel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120" y="43502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248920" y="4350240"/>
                <a:ext cx="1658520" cy="1135080"/>
                <a:chOff x="2248920" y="4350240"/>
                <a:chExt cx="1658520" cy="1135080"/>
              </a:xfrm>
            </p:grpSpPr>
            <p:sp>
              <p:nvSpPr>
                <p:cNvPr id="401" name=""/>
                <p:cNvSpPr/>
                <p:nvPr/>
              </p:nvSpPr>
              <p:spPr>
                <a:xfrm>
                  <a:off x="2337840" y="43502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2248920" y="43502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908160" y="4350240"/>
                <a:ext cx="1795680" cy="1135080"/>
                <a:chOff x="3908160" y="4350240"/>
                <a:chExt cx="1795680" cy="1135080"/>
              </a:xfrm>
            </p:grpSpPr>
            <p:sp>
              <p:nvSpPr>
                <p:cNvPr id="404" name=""/>
                <p:cNvSpPr/>
                <p:nvPr/>
              </p:nvSpPr>
              <p:spPr>
                <a:xfrm>
                  <a:off x="3997080" y="43502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08160" y="43502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5704200" y="4350240"/>
                <a:ext cx="1796040" cy="1135080"/>
                <a:chOff x="5704200" y="4350240"/>
                <a:chExt cx="1796040" cy="1135080"/>
              </a:xfrm>
            </p:grpSpPr>
            <p:sp>
              <p:nvSpPr>
                <p:cNvPr id="407" name=""/>
                <p:cNvSpPr/>
                <p:nvPr/>
              </p:nvSpPr>
              <p:spPr>
                <a:xfrm>
                  <a:off x="5793480" y="43502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704200" y="43502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500600" y="4350240"/>
                <a:ext cx="1635840" cy="1135080"/>
                <a:chOff x="7500600" y="4350240"/>
                <a:chExt cx="1635840" cy="1135080"/>
              </a:xfrm>
            </p:grpSpPr>
            <p:sp>
              <p:nvSpPr>
                <p:cNvPr id="410" name=""/>
                <p:cNvSpPr/>
                <p:nvPr/>
              </p:nvSpPr>
              <p:spPr>
                <a:xfrm>
                  <a:off x="7589520" y="43502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500600" y="43502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120" y="5486040"/>
                <a:ext cx="2242440" cy="1135080"/>
                <a:chOff x="6120" y="5486040"/>
                <a:chExt cx="2242440" cy="1135080"/>
              </a:xfrm>
            </p:grpSpPr>
            <p:sp>
              <p:nvSpPr>
                <p:cNvPr id="413" name=""/>
                <p:cNvSpPr/>
                <p:nvPr/>
              </p:nvSpPr>
              <p:spPr>
                <a:xfrm>
                  <a:off x="95400" y="54860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1. Nr. semintelor germin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 y="54860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2248920" y="5486040"/>
                <a:ext cx="1658520" cy="1135080"/>
                <a:chOff x="2248920" y="5486040"/>
                <a:chExt cx="1658520" cy="1135080"/>
              </a:xfrm>
            </p:grpSpPr>
            <p:sp>
              <p:nvSpPr>
                <p:cNvPr id="416" name=""/>
                <p:cNvSpPr/>
                <p:nvPr/>
              </p:nvSpPr>
              <p:spPr>
                <a:xfrm>
                  <a:off x="2337840" y="54860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248920" y="54860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908160" y="5486040"/>
                <a:ext cx="1795680" cy="1135080"/>
                <a:chOff x="3908160" y="5486040"/>
                <a:chExt cx="1795680" cy="1135080"/>
              </a:xfrm>
            </p:grpSpPr>
            <p:sp>
              <p:nvSpPr>
                <p:cNvPr id="419" name=""/>
                <p:cNvSpPr/>
                <p:nvPr/>
              </p:nvSpPr>
              <p:spPr>
                <a:xfrm>
                  <a:off x="3997080" y="54860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3908160" y="54860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5704200" y="5486040"/>
                <a:ext cx="1796040" cy="1135080"/>
                <a:chOff x="5704200" y="5486040"/>
                <a:chExt cx="1796040" cy="1135080"/>
              </a:xfrm>
            </p:grpSpPr>
            <p:sp>
              <p:nvSpPr>
                <p:cNvPr id="422" name=""/>
                <p:cNvSpPr/>
                <p:nvPr/>
              </p:nvSpPr>
              <p:spPr>
                <a:xfrm>
                  <a:off x="5793480" y="54860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704200" y="54860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7500600" y="5486040"/>
                <a:ext cx="1635840" cy="1135080"/>
                <a:chOff x="7500600" y="5486040"/>
                <a:chExt cx="1635840" cy="1135080"/>
              </a:xfrm>
            </p:grpSpPr>
            <p:sp>
              <p:nvSpPr>
                <p:cNvPr id="425" name=""/>
                <p:cNvSpPr/>
                <p:nvPr/>
              </p:nvSpPr>
              <p:spPr>
                <a:xfrm>
                  <a:off x="7589520" y="54860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7500600" y="54860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0" y="304920"/>
              <a:ext cx="9143640" cy="6324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8" name=""/>
          <p:cNvSpPr/>
          <p:nvPr/>
        </p:nvSpPr>
        <p:spPr>
          <a:xfrm>
            <a:off x="0" y="304920"/>
            <a:ext cx="914400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ncluzii</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ro-RO" sz="3600" spc="-1" strike="noStrike">
                <a:solidFill>
                  <a:srgbClr val="000000"/>
                </a:solidFill>
                <a:latin typeface="Calibri"/>
              </a:rPr>
              <a:t>Semintele vechi de un an au germinat mai repede decat cele de trei ani</a:t>
            </a:r>
            <a:r>
              <a:rPr b="0" lang="en-US" sz="3600" spc="-1" strike="noStrike">
                <a:solidFill>
                  <a:srgbClr val="000000"/>
                </a:solidFill>
                <a:latin typeface="Calibri"/>
              </a:rPr>
              <a:t> sub influenta apei de izvor si apei de la robine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ro-RO" sz="3600" spc="-1" strike="noStrike">
                <a:solidFill>
                  <a:srgbClr val="000000"/>
                </a:solidFill>
                <a:latin typeface="Times New Roman"/>
              </a:rPr>
              <a:t>Puterea de germinatie a semintelor tinere a fost de 96%in cazul udarii cu apa  de la robinet, iar</a:t>
            </a:r>
            <a:r>
              <a:rPr b="0" lang="en-US" sz="3600" spc="-1" strike="noStrike">
                <a:solidFill>
                  <a:srgbClr val="000000"/>
                </a:solidFill>
                <a:latin typeface="Times New Roman"/>
              </a:rPr>
              <a:t> in cazul utilizarii apei de izvor  a fost de 9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inatia semintelor de trei ani a avut un procent de 92% atat in cazul utiliarii apei de robinet cat si al apei de izv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9" name=""/>
          <p:cNvSpPr/>
          <p:nvPr/>
        </p:nvSpPr>
        <p:spPr>
          <a:xfrm>
            <a:off x="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0" name="picture009" descr=""/>
          <p:cNvPicPr/>
          <p:nvPr/>
        </p:nvPicPr>
        <p:blipFill>
          <a:blip r:embed="rId1"/>
          <a:stretch/>
        </p:blipFill>
        <p:spPr>
          <a:xfrm>
            <a:off x="533520" y="304920"/>
            <a:ext cx="3276360" cy="2476440"/>
          </a:xfrm>
          <a:prstGeom prst="rect">
            <a:avLst/>
          </a:prstGeom>
          <a:ln w="0">
            <a:noFill/>
          </a:ln>
        </p:spPr>
      </p:pic>
      <p:sp>
        <p:nvSpPr>
          <p:cNvPr id="431" name=""/>
          <p:cNvSpPr/>
          <p:nvPr/>
        </p:nvSpPr>
        <p:spPr>
          <a:xfrm>
            <a:off x="0" y="24573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32" name="Imag011" descr=""/>
          <p:cNvPicPr/>
          <p:nvPr/>
        </p:nvPicPr>
        <p:blipFill>
          <a:blip r:embed="rId2"/>
          <a:stretch/>
        </p:blipFill>
        <p:spPr>
          <a:xfrm>
            <a:off x="4876920" y="228600"/>
            <a:ext cx="3352680" cy="2362320"/>
          </a:xfrm>
          <a:prstGeom prst="rect">
            <a:avLst/>
          </a:prstGeom>
          <a:ln w="0">
            <a:noFill/>
          </a:ln>
        </p:spPr>
      </p:pic>
      <p:sp>
        <p:nvSpPr>
          <p:cNvPr id="433" name=""/>
          <p:cNvSpPr/>
          <p:nvPr/>
        </p:nvSpPr>
        <p:spPr>
          <a:xfrm>
            <a:off x="0" y="27320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en-US" sz="1600" spc="-1" strike="noStrike">
                <a:solidFill>
                  <a:srgbClr val="000000"/>
                </a:solidFill>
                <a:latin typeface="Calibri"/>
              </a:rPr>
              <a:t>1.montareav experientei                                                               2.aparitaia radiculei</a:t>
            </a:r>
            <a:endParaRPr b="0" lang="en-US" sz="1600" spc="-1" strike="noStrike">
              <a:solidFill>
                <a:srgbClr val="000000"/>
              </a:solidFill>
              <a:latin typeface="Times New Roman"/>
            </a:endParaRPr>
          </a:p>
        </p:txBody>
      </p:sp>
      <p:sp>
        <p:nvSpPr>
          <p:cNvPr id="434" name=""/>
          <p:cNvSpPr/>
          <p:nvPr/>
        </p:nvSpPr>
        <p:spPr>
          <a:xfrm>
            <a:off x="38088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3.aparitia radiculei                                   </a:t>
            </a:r>
            <a:r>
              <a:rPr b="0" lang="en-US" sz="1600" spc="-1" strike="noStrike">
                <a:solidFill>
                  <a:srgbClr val="000000"/>
                </a:solidFill>
                <a:latin typeface="Calibri"/>
              </a:rPr>
              <a:t>                               </a:t>
            </a:r>
            <a:r>
              <a:rPr b="0" lang="ro-RO" sz="1600" spc="-1" strike="noStrike">
                <a:solidFill>
                  <a:srgbClr val="000000"/>
                </a:solidFill>
                <a:latin typeface="Calibri"/>
              </a:rPr>
              <a:t>   4.formarea perilor absorbanti</a:t>
            </a:r>
            <a:r>
              <a:rPr b="0" lang="ro-RO"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35" name="Imag010" descr=""/>
          <p:cNvPicPr/>
          <p:nvPr/>
        </p:nvPicPr>
        <p:blipFill>
          <a:blip r:embed="rId3"/>
          <a:stretch/>
        </p:blipFill>
        <p:spPr>
          <a:xfrm>
            <a:off x="609480" y="3200400"/>
            <a:ext cx="3200400" cy="2419200"/>
          </a:xfrm>
          <a:prstGeom prst="rect">
            <a:avLst/>
          </a:prstGeom>
          <a:ln w="0">
            <a:noFill/>
          </a:ln>
        </p:spPr>
      </p:pic>
      <p:sp>
        <p:nvSpPr>
          <p:cNvPr id="436" name=""/>
          <p:cNvSpPr/>
          <p:nvPr/>
        </p:nvSpPr>
        <p:spPr>
          <a:xfrm>
            <a:off x="1828800" y="228600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37" name="picture011" descr=""/>
          <p:cNvPicPr/>
          <p:nvPr/>
        </p:nvPicPr>
        <p:blipFill>
          <a:blip r:embed="rId4"/>
          <a:stretch/>
        </p:blipFill>
        <p:spPr>
          <a:xfrm>
            <a:off x="5105520" y="3200400"/>
            <a:ext cx="3352680" cy="240048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8" name=""/>
          <p:cNvSpPr/>
          <p:nvPr/>
        </p:nvSpPr>
        <p:spPr>
          <a:xfrm>
            <a:off x="0" y="200988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62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ro-RO" sz="1200" spc="-1" strike="noStrike">
                <a:solidFill>
                  <a:srgbClr val="000000"/>
                </a:solidFill>
                <a:latin typeface="Calibri"/>
              </a:rPr>
              <a:t>5.aparitia</a:t>
            </a:r>
            <a:endParaRPr b="0" lang="en-US" sz="1200" spc="-1" strike="noStrike">
              <a:solidFill>
                <a:srgbClr val="000000"/>
              </a:solidFill>
              <a:latin typeface="Times New Roman"/>
            </a:endParaRPr>
          </a:p>
        </p:txBody>
      </p:sp>
      <p:pic>
        <p:nvPicPr>
          <p:cNvPr id="439" name="picture013" descr=""/>
          <p:cNvPicPr/>
          <p:nvPr/>
        </p:nvPicPr>
        <p:blipFill>
          <a:blip r:embed="rId1"/>
          <a:stretch/>
        </p:blipFill>
        <p:spPr>
          <a:xfrm>
            <a:off x="4876920" y="304920"/>
            <a:ext cx="3886200" cy="4419360"/>
          </a:xfrm>
          <a:prstGeom prst="rect">
            <a:avLst/>
          </a:prstGeom>
          <a:ln w="0">
            <a:noFill/>
          </a:ln>
        </p:spPr>
      </p:pic>
      <p:sp>
        <p:nvSpPr>
          <p:cNvPr id="440" name=""/>
          <p:cNvSpPr/>
          <p:nvPr/>
        </p:nvSpPr>
        <p:spPr>
          <a:xfrm>
            <a:off x="0" y="5791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41" name="picture016" descr=""/>
          <p:cNvPicPr/>
          <p:nvPr/>
        </p:nvPicPr>
        <p:blipFill>
          <a:blip r:embed="rId2"/>
          <a:stretch/>
        </p:blipFill>
        <p:spPr>
          <a:xfrm>
            <a:off x="380880" y="380880"/>
            <a:ext cx="3810240" cy="4267440"/>
          </a:xfrm>
          <a:prstGeom prst="rect">
            <a:avLst/>
          </a:prstGeom>
          <a:ln w="0">
            <a:noFill/>
          </a:ln>
        </p:spPr>
      </p:pic>
      <p:sp>
        <p:nvSpPr>
          <p:cNvPr id="442" name=""/>
          <p:cNvSpPr/>
          <p:nvPr/>
        </p:nvSpPr>
        <p:spPr>
          <a:xfrm>
            <a:off x="533520" y="5257800"/>
            <a:ext cx="7696080" cy="925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paritia radacinilor</a:t>
            </a:r>
            <a:endParaRPr b="0" lang="en-US" sz="2800" spc="-1" strike="noStrike">
              <a:solidFill>
                <a:srgbClr val="000000"/>
              </a:solidFill>
              <a:latin typeface="Times New Roman"/>
            </a:endParaRPr>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3" name=""/>
          <p:cNvSpPr/>
          <p:nvPr/>
        </p:nvSpPr>
        <p:spPr>
          <a:xfrm>
            <a:off x="0" y="5257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200" spc="-1" strike="noStrike">
                <a:solidFill>
                  <a:srgbClr val="000000"/>
                </a:solidFill>
                <a:latin typeface="Calibri"/>
              </a:rPr>
              <a:t>                                           </a:t>
            </a:r>
            <a:r>
              <a:rPr b="0" lang="en-US" sz="2800" spc="-1" strike="noStrike">
                <a:solidFill>
                  <a:srgbClr val="000000"/>
                </a:solidFill>
                <a:latin typeface="Calibri"/>
              </a:rPr>
              <a:t>6.orientarea cotiledoanelor </a:t>
            </a:r>
            <a:r>
              <a:rPr b="0" lang="en-US" sz="2800" spc="-1" strike="noStrike">
                <a:solidFill>
                  <a:srgbClr val="000000"/>
                </a:solidFill>
                <a:latin typeface="Calibri"/>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44" name="picture017" descr=""/>
          <p:cNvPicPr/>
          <p:nvPr/>
        </p:nvPicPr>
        <p:blipFill>
          <a:blip r:embed="rId1"/>
          <a:stretch/>
        </p:blipFill>
        <p:spPr>
          <a:xfrm>
            <a:off x="609480" y="762120"/>
            <a:ext cx="3657600" cy="3276360"/>
          </a:xfrm>
          <a:prstGeom prst="rect">
            <a:avLst/>
          </a:prstGeom>
          <a:ln w="0">
            <a:noFill/>
          </a:ln>
        </p:spPr>
      </p:pic>
      <p:sp>
        <p:nvSpPr>
          <p:cNvPr id="445" name=""/>
          <p:cNvSpPr/>
          <p:nvPr/>
        </p:nvSpPr>
        <p:spPr>
          <a:xfrm>
            <a:off x="0" y="24573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46" name="picture018" descr=""/>
          <p:cNvPicPr/>
          <p:nvPr/>
        </p:nvPicPr>
        <p:blipFill>
          <a:blip r:embed="rId2"/>
          <a:stretch/>
        </p:blipFill>
        <p:spPr>
          <a:xfrm>
            <a:off x="5410080" y="685800"/>
            <a:ext cx="3276720" cy="3429000"/>
          </a:xfrm>
          <a:prstGeom prst="rect">
            <a:avLst/>
          </a:prstGeom>
          <a:ln w="0">
            <a:noFill/>
          </a:ln>
        </p:spPr>
      </p:pic>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7" name=""/>
          <p:cNvSpPr/>
          <p:nvPr/>
        </p:nvSpPr>
        <p:spPr>
          <a:xfrm>
            <a:off x="228600" y="48769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o-RO" sz="2800" spc="-1" strike="noStrike">
                <a:solidFill>
                  <a:srgbClr val="000000"/>
                </a:solidFill>
                <a:latin typeface="Calibri"/>
              </a:rPr>
              <a:t>7. aparitia  primelor tulpi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019" descr=""/>
          <p:cNvPicPr/>
          <p:nvPr/>
        </p:nvPicPr>
        <p:blipFill>
          <a:blip r:embed="rId1"/>
          <a:stretch/>
        </p:blipFill>
        <p:spPr>
          <a:xfrm>
            <a:off x="1600200" y="304920"/>
            <a:ext cx="6705720" cy="4572000"/>
          </a:xfrm>
          <a:prstGeom prst="rect">
            <a:avLst/>
          </a:prstGeom>
          <a:ln w="0">
            <a:noFill/>
          </a:ln>
        </p:spPr>
      </p:pic>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UL 3</a:t>
            </a:r>
            <a:br>
              <a:rPr sz="4400"/>
            </a:br>
            <a:endParaRPr b="0" lang="en-US" sz="4400" spc="-1" strike="noStrike">
              <a:solidFill>
                <a:srgbClr val="000000"/>
              </a:solidFill>
              <a:latin typeface="Times New Roman"/>
            </a:endParaRPr>
          </a:p>
        </p:txBody>
      </p:sp>
      <p:sp>
        <p:nvSpPr>
          <p:cNvPr id="450"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Evidentierea substantelor de rezerva in cresterea plantulei</a:t>
            </a:r>
            <a:endParaRPr b="0" lang="en-US" sz="3200" spc="-1" strike="noStrike">
              <a:solidFill>
                <a:srgbClr val="000000"/>
              </a:solidFill>
              <a:latin typeface="Times New Roman"/>
            </a:endParaRPr>
          </a:p>
        </p:txBody>
      </p:sp>
      <p:sp>
        <p:nvSpPr>
          <p:cNvPr id="451" name=""/>
          <p:cNvSpPr/>
          <p:nvPr/>
        </p:nvSpPr>
        <p:spPr>
          <a:xfrm>
            <a:off x="457200" y="1981080"/>
            <a:ext cx="8686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teriale necesare</a:t>
            </a:r>
            <a:r>
              <a:rPr b="0" lang="fr-FR" sz="2400" spc="-1" strike="noStrike">
                <a:solidFill>
                  <a:srgbClr val="000000"/>
                </a:solidFill>
                <a:latin typeface="Times New Roman"/>
              </a:rPr>
              <a:t> : seminte de fasole, bisturiu, vase cu vata imbibata in apa plata.</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odul de lucru</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 se lasa in apa 2-3 ore, 30 seminte de fasole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upa indepartarea tegumentelor, semintele se repartizeaza in vase astfel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 primul se pun 10 seminte intregi,</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 al diolea se pun 10 seminte doar cu un  cotiledon</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  in al treilea vas se pun 10 seminte doar cu o jumatate de cotiledon</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se urmareste cresterea plantelor din ghivece</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452" name=""/>
          <p:cNvGrpSpPr/>
          <p:nvPr/>
        </p:nvGrpSpPr>
        <p:grpSpPr>
          <a:xfrm>
            <a:off x="0" y="0"/>
            <a:ext cx="9143640" cy="6857640"/>
            <a:chOff x="0" y="0"/>
            <a:chExt cx="9143640" cy="6857640"/>
          </a:xfrm>
        </p:grpSpPr>
        <p:grpSp>
          <p:nvGrpSpPr>
            <p:cNvPr id="453" name=""/>
            <p:cNvGrpSpPr/>
            <p:nvPr/>
          </p:nvGrpSpPr>
          <p:grpSpPr>
            <a:xfrm>
              <a:off x="5760" y="4680"/>
              <a:ext cx="9131040" cy="6847200"/>
              <a:chOff x="5760" y="4680"/>
              <a:chExt cx="9131040" cy="6847200"/>
            </a:xfrm>
          </p:grpSpPr>
          <p:grpSp>
            <p:nvGrpSpPr>
              <p:cNvPr id="454" name=""/>
              <p:cNvGrpSpPr/>
              <p:nvPr/>
            </p:nvGrpSpPr>
            <p:grpSpPr>
              <a:xfrm>
                <a:off x="5760" y="4680"/>
                <a:ext cx="2961000" cy="674640"/>
                <a:chOff x="5760" y="4680"/>
                <a:chExt cx="2961000" cy="674640"/>
              </a:xfrm>
            </p:grpSpPr>
            <p:sp>
              <p:nvSpPr>
                <p:cNvPr id="455" name=""/>
                <p:cNvSpPr/>
                <p:nvPr/>
              </p:nvSpPr>
              <p:spPr>
                <a:xfrm>
                  <a:off x="92160" y="468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ZELE GERMINATIE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760" y="468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2967120" y="4680"/>
                <a:ext cx="2128320" cy="674640"/>
                <a:chOff x="2967120" y="4680"/>
                <a:chExt cx="2128320" cy="674640"/>
              </a:xfrm>
            </p:grpSpPr>
            <p:sp>
              <p:nvSpPr>
                <p:cNvPr id="458" name=""/>
                <p:cNvSpPr/>
                <p:nvPr/>
              </p:nvSpPr>
              <p:spPr>
                <a:xfrm>
                  <a:off x="3053160" y="468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OTILEDOA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2967120" y="468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5095800" y="4680"/>
                <a:ext cx="1911600" cy="674640"/>
                <a:chOff x="5095800" y="4680"/>
                <a:chExt cx="1911600" cy="674640"/>
              </a:xfrm>
            </p:grpSpPr>
            <p:sp>
              <p:nvSpPr>
                <p:cNvPr id="461" name=""/>
                <p:cNvSpPr/>
                <p:nvPr/>
              </p:nvSpPr>
              <p:spPr>
                <a:xfrm>
                  <a:off x="5182200" y="468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OTILED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5095800" y="468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008120" y="4680"/>
                <a:ext cx="2128680" cy="674640"/>
                <a:chOff x="7008120" y="4680"/>
                <a:chExt cx="2128680" cy="674640"/>
              </a:xfrm>
            </p:grpSpPr>
            <p:sp>
              <p:nvSpPr>
                <p:cNvPr id="464" name=""/>
                <p:cNvSpPr/>
                <p:nvPr/>
              </p:nvSpPr>
              <p:spPr>
                <a:xfrm>
                  <a:off x="7094520" y="468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½ COTILEDOA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
                <p:cNvSpPr/>
                <p:nvPr/>
              </p:nvSpPr>
              <p:spPr>
                <a:xfrm>
                  <a:off x="7008120" y="468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760" y="679680"/>
                <a:ext cx="2961000" cy="867240"/>
                <a:chOff x="5760" y="679680"/>
                <a:chExt cx="2961000" cy="867240"/>
              </a:xfrm>
            </p:grpSpPr>
            <p:sp>
              <p:nvSpPr>
                <p:cNvPr id="467" name=""/>
                <p:cNvSpPr/>
                <p:nvPr/>
              </p:nvSpPr>
              <p:spPr>
                <a:xfrm>
                  <a:off x="92160" y="67968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IUA SI ORA LA CARE AU FOST PUSE LA GERMIN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
                <p:cNvSpPr/>
                <p:nvPr/>
              </p:nvSpPr>
              <p:spPr>
                <a:xfrm>
                  <a:off x="5760" y="67968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967120" y="679680"/>
                <a:ext cx="2128320" cy="867240"/>
                <a:chOff x="2967120" y="679680"/>
                <a:chExt cx="2128320" cy="867240"/>
              </a:xfrm>
            </p:grpSpPr>
            <p:sp>
              <p:nvSpPr>
                <p:cNvPr id="470" name=""/>
                <p:cNvSpPr/>
                <p:nvPr/>
              </p:nvSpPr>
              <p:spPr>
                <a:xfrm>
                  <a:off x="3053160" y="67968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
                <p:cNvSpPr/>
                <p:nvPr/>
              </p:nvSpPr>
              <p:spPr>
                <a:xfrm>
                  <a:off x="2967120" y="67968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5095800" y="679680"/>
                <a:ext cx="1911600" cy="867240"/>
                <a:chOff x="5095800" y="679680"/>
                <a:chExt cx="1911600" cy="867240"/>
              </a:xfrm>
            </p:grpSpPr>
            <p:sp>
              <p:nvSpPr>
                <p:cNvPr id="473" name=""/>
                <p:cNvSpPr/>
                <p:nvPr/>
              </p:nvSpPr>
              <p:spPr>
                <a:xfrm>
                  <a:off x="5182200" y="67968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
                <p:cNvSpPr/>
                <p:nvPr/>
              </p:nvSpPr>
              <p:spPr>
                <a:xfrm>
                  <a:off x="5095800" y="67968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7008120" y="679680"/>
                <a:ext cx="2128680" cy="867240"/>
                <a:chOff x="7008120" y="679680"/>
                <a:chExt cx="2128680" cy="867240"/>
              </a:xfrm>
            </p:grpSpPr>
            <p:sp>
              <p:nvSpPr>
                <p:cNvPr id="476" name=""/>
                <p:cNvSpPr/>
                <p:nvPr/>
              </p:nvSpPr>
              <p:spPr>
                <a:xfrm>
                  <a:off x="7094520" y="67968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
                <p:cNvSpPr/>
                <p:nvPr/>
              </p:nvSpPr>
              <p:spPr>
                <a:xfrm>
                  <a:off x="7008120" y="67968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760" y="1547640"/>
                <a:ext cx="2961000" cy="674640"/>
                <a:chOff x="5760" y="1547640"/>
                <a:chExt cx="2961000" cy="674640"/>
              </a:xfrm>
            </p:grpSpPr>
            <p:sp>
              <p:nvSpPr>
                <p:cNvPr id="479" name=""/>
                <p:cNvSpPr/>
                <p:nvPr/>
              </p:nvSpPr>
              <p:spPr>
                <a:xfrm>
                  <a:off x="92160" y="154764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BIBARE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0" name=""/>
                <p:cNvSpPr/>
                <p:nvPr/>
              </p:nvSpPr>
              <p:spPr>
                <a:xfrm>
                  <a:off x="5760" y="154764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2967120" y="1547640"/>
                <a:ext cx="2128320" cy="674640"/>
                <a:chOff x="2967120" y="1547640"/>
                <a:chExt cx="2128320" cy="674640"/>
              </a:xfrm>
            </p:grpSpPr>
            <p:sp>
              <p:nvSpPr>
                <p:cNvPr id="482" name=""/>
                <p:cNvSpPr/>
                <p:nvPr/>
              </p:nvSpPr>
              <p:spPr>
                <a:xfrm>
                  <a:off x="3053160" y="154764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
                <p:cNvSpPr/>
                <p:nvPr/>
              </p:nvSpPr>
              <p:spPr>
                <a:xfrm>
                  <a:off x="2967120" y="154764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5095800" y="1547640"/>
                <a:ext cx="1911600" cy="674640"/>
                <a:chOff x="5095800" y="1547640"/>
                <a:chExt cx="1911600" cy="674640"/>
              </a:xfrm>
            </p:grpSpPr>
            <p:sp>
              <p:nvSpPr>
                <p:cNvPr id="485" name=""/>
                <p:cNvSpPr/>
                <p:nvPr/>
              </p:nvSpPr>
              <p:spPr>
                <a:xfrm>
                  <a:off x="5182200" y="154764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
                <p:cNvSpPr/>
                <p:nvPr/>
              </p:nvSpPr>
              <p:spPr>
                <a:xfrm>
                  <a:off x="5095800" y="154764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7008120" y="1547640"/>
                <a:ext cx="2128680" cy="674640"/>
                <a:chOff x="7008120" y="1547640"/>
                <a:chExt cx="2128680" cy="674640"/>
              </a:xfrm>
            </p:grpSpPr>
            <p:sp>
              <p:nvSpPr>
                <p:cNvPr id="488" name=""/>
                <p:cNvSpPr/>
                <p:nvPr/>
              </p:nvSpPr>
              <p:spPr>
                <a:xfrm>
                  <a:off x="7094520" y="154764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
                <p:cNvSpPr/>
                <p:nvPr/>
              </p:nvSpPr>
              <p:spPr>
                <a:xfrm>
                  <a:off x="7008120" y="154764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5760" y="2222640"/>
                <a:ext cx="2961000" cy="675000"/>
                <a:chOff x="5760" y="2222640"/>
                <a:chExt cx="2961000" cy="675000"/>
              </a:xfrm>
            </p:grpSpPr>
            <p:sp>
              <p:nvSpPr>
                <p:cNvPr id="491" name=""/>
                <p:cNvSpPr/>
                <p:nvPr/>
              </p:nvSpPr>
              <p:spPr>
                <a:xfrm>
                  <a:off x="92160" y="2222640"/>
                  <a:ext cx="27878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BARCIREA TEGUMENTULU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5760" y="2222640"/>
                  <a:ext cx="29610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2967120" y="2222640"/>
                <a:ext cx="2128320" cy="675000"/>
                <a:chOff x="2967120" y="2222640"/>
                <a:chExt cx="2128320" cy="675000"/>
              </a:xfrm>
            </p:grpSpPr>
            <p:sp>
              <p:nvSpPr>
                <p:cNvPr id="494" name=""/>
                <p:cNvSpPr/>
                <p:nvPr/>
              </p:nvSpPr>
              <p:spPr>
                <a:xfrm>
                  <a:off x="3053160" y="2222640"/>
                  <a:ext cx="19562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10, 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5" name=""/>
                <p:cNvSpPr/>
                <p:nvPr/>
              </p:nvSpPr>
              <p:spPr>
                <a:xfrm>
                  <a:off x="2967120" y="2222640"/>
                  <a:ext cx="21283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5095800" y="2222640"/>
                <a:ext cx="1911600" cy="675000"/>
                <a:chOff x="5095800" y="2222640"/>
                <a:chExt cx="1911600" cy="675000"/>
              </a:xfrm>
            </p:grpSpPr>
            <p:sp>
              <p:nvSpPr>
                <p:cNvPr id="497" name=""/>
                <p:cNvSpPr/>
                <p:nvPr/>
              </p:nvSpPr>
              <p:spPr>
                <a:xfrm>
                  <a:off x="5182200" y="2222640"/>
                  <a:ext cx="17384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
                <p:cNvSpPr/>
                <p:nvPr/>
              </p:nvSpPr>
              <p:spPr>
                <a:xfrm>
                  <a:off x="5095800" y="2222640"/>
                  <a:ext cx="19116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7008120" y="2222640"/>
                <a:ext cx="2128680" cy="675000"/>
                <a:chOff x="7008120" y="2222640"/>
                <a:chExt cx="2128680" cy="675000"/>
              </a:xfrm>
            </p:grpSpPr>
            <p:sp>
              <p:nvSpPr>
                <p:cNvPr id="500" name=""/>
                <p:cNvSpPr/>
                <p:nvPr/>
              </p:nvSpPr>
              <p:spPr>
                <a:xfrm>
                  <a:off x="7094520" y="2222640"/>
                  <a:ext cx="195552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
                <p:cNvSpPr/>
                <p:nvPr/>
              </p:nvSpPr>
              <p:spPr>
                <a:xfrm>
                  <a:off x="7008120" y="2222640"/>
                  <a:ext cx="212868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5760" y="2898360"/>
                <a:ext cx="2961000" cy="867240"/>
                <a:chOff x="5760" y="2898360"/>
                <a:chExt cx="2961000" cy="867240"/>
              </a:xfrm>
            </p:grpSpPr>
            <p:sp>
              <p:nvSpPr>
                <p:cNvPr id="503" name=""/>
                <p:cNvSpPr/>
                <p:nvPr/>
              </p:nvSpPr>
              <p:spPr>
                <a:xfrm>
                  <a:off x="92160" y="289836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PEREA TEGUMENTULU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
                <p:cNvSpPr/>
                <p:nvPr/>
              </p:nvSpPr>
              <p:spPr>
                <a:xfrm>
                  <a:off x="5760" y="289836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967120" y="2898360"/>
                <a:ext cx="2128320" cy="867240"/>
                <a:chOff x="2967120" y="2898360"/>
                <a:chExt cx="2128320" cy="867240"/>
              </a:xfrm>
            </p:grpSpPr>
            <p:sp>
              <p:nvSpPr>
                <p:cNvPr id="506" name=""/>
                <p:cNvSpPr/>
                <p:nvPr/>
              </p:nvSpPr>
              <p:spPr>
                <a:xfrm>
                  <a:off x="3053160" y="289836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
                <p:cNvSpPr/>
                <p:nvPr/>
              </p:nvSpPr>
              <p:spPr>
                <a:xfrm>
                  <a:off x="2967120" y="289836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5095800" y="2898360"/>
                <a:ext cx="1911600" cy="867240"/>
                <a:chOff x="5095800" y="2898360"/>
                <a:chExt cx="1911600" cy="867240"/>
              </a:xfrm>
            </p:grpSpPr>
            <p:sp>
              <p:nvSpPr>
                <p:cNvPr id="509" name=""/>
                <p:cNvSpPr/>
                <p:nvPr/>
              </p:nvSpPr>
              <p:spPr>
                <a:xfrm>
                  <a:off x="5182200" y="289836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
                <p:cNvSpPr/>
                <p:nvPr/>
              </p:nvSpPr>
              <p:spPr>
                <a:xfrm>
                  <a:off x="5095800" y="289836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008120" y="2898360"/>
                <a:ext cx="2128680" cy="867240"/>
                <a:chOff x="7008120" y="2898360"/>
                <a:chExt cx="2128680" cy="867240"/>
              </a:xfrm>
            </p:grpSpPr>
            <p:sp>
              <p:nvSpPr>
                <p:cNvPr id="512" name=""/>
                <p:cNvSpPr/>
                <p:nvPr/>
              </p:nvSpPr>
              <p:spPr>
                <a:xfrm>
                  <a:off x="7094520" y="289836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
                <p:cNvSpPr/>
                <p:nvPr/>
              </p:nvSpPr>
              <p:spPr>
                <a:xfrm>
                  <a:off x="7008120" y="289836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760" y="3765960"/>
                <a:ext cx="2961000" cy="867240"/>
                <a:chOff x="5760" y="3765960"/>
                <a:chExt cx="2961000" cy="867240"/>
              </a:xfrm>
            </p:grpSpPr>
            <p:sp>
              <p:nvSpPr>
                <p:cNvPr id="515" name=""/>
                <p:cNvSpPr/>
                <p:nvPr/>
              </p:nvSpPr>
              <p:spPr>
                <a:xfrm>
                  <a:off x="92160" y="376596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RADACINITE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
                <p:cNvSpPr/>
                <p:nvPr/>
              </p:nvSpPr>
              <p:spPr>
                <a:xfrm>
                  <a:off x="5760" y="376596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967120" y="3765960"/>
                <a:ext cx="2128320" cy="867240"/>
                <a:chOff x="2967120" y="3765960"/>
                <a:chExt cx="2128320" cy="867240"/>
              </a:xfrm>
            </p:grpSpPr>
            <p:sp>
              <p:nvSpPr>
                <p:cNvPr id="518" name=""/>
                <p:cNvSpPr/>
                <p:nvPr/>
              </p:nvSpPr>
              <p:spPr>
                <a:xfrm>
                  <a:off x="3053160" y="376596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2967120" y="376596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095800" y="3765960"/>
                <a:ext cx="1911600" cy="867240"/>
                <a:chOff x="5095800" y="3765960"/>
                <a:chExt cx="1911600" cy="867240"/>
              </a:xfrm>
            </p:grpSpPr>
            <p:sp>
              <p:nvSpPr>
                <p:cNvPr id="521" name=""/>
                <p:cNvSpPr/>
                <p:nvPr/>
              </p:nvSpPr>
              <p:spPr>
                <a:xfrm>
                  <a:off x="5182200" y="376596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
                <p:cNvSpPr/>
                <p:nvPr/>
              </p:nvSpPr>
              <p:spPr>
                <a:xfrm>
                  <a:off x="5095800" y="376596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7008120" y="3765960"/>
                <a:ext cx="2128680" cy="867240"/>
                <a:chOff x="7008120" y="3765960"/>
                <a:chExt cx="2128680" cy="867240"/>
              </a:xfrm>
            </p:grpSpPr>
            <p:sp>
              <p:nvSpPr>
                <p:cNvPr id="524" name=""/>
                <p:cNvSpPr/>
                <p:nvPr/>
              </p:nvSpPr>
              <p:spPr>
                <a:xfrm>
                  <a:off x="7094520" y="376596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
                <p:cNvSpPr/>
                <p:nvPr/>
              </p:nvSpPr>
              <p:spPr>
                <a:xfrm>
                  <a:off x="7008120" y="376596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760" y="4633920"/>
                <a:ext cx="2961000" cy="867240"/>
                <a:chOff x="5760" y="4633920"/>
                <a:chExt cx="2961000" cy="867240"/>
              </a:xfrm>
            </p:grpSpPr>
            <p:sp>
              <p:nvSpPr>
                <p:cNvPr id="527" name=""/>
                <p:cNvSpPr/>
                <p:nvPr/>
              </p:nvSpPr>
              <p:spPr>
                <a:xfrm>
                  <a:off x="92160" y="463392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PERILOR ABSORBAN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8" name=""/>
                <p:cNvSpPr/>
                <p:nvPr/>
              </p:nvSpPr>
              <p:spPr>
                <a:xfrm>
                  <a:off x="5760" y="463392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2967120" y="4633920"/>
                <a:ext cx="2128320" cy="867240"/>
                <a:chOff x="2967120" y="4633920"/>
                <a:chExt cx="2128320" cy="867240"/>
              </a:xfrm>
            </p:grpSpPr>
            <p:sp>
              <p:nvSpPr>
                <p:cNvPr id="530" name=""/>
                <p:cNvSpPr/>
                <p:nvPr/>
              </p:nvSpPr>
              <p:spPr>
                <a:xfrm>
                  <a:off x="3053160" y="463392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4.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
                <p:cNvSpPr/>
                <p:nvPr/>
              </p:nvSpPr>
              <p:spPr>
                <a:xfrm>
                  <a:off x="2967120" y="463392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5095800" y="4633920"/>
                <a:ext cx="1911600" cy="867240"/>
                <a:chOff x="5095800" y="4633920"/>
                <a:chExt cx="1911600" cy="867240"/>
              </a:xfrm>
            </p:grpSpPr>
            <p:sp>
              <p:nvSpPr>
                <p:cNvPr id="533" name=""/>
                <p:cNvSpPr/>
                <p:nvPr/>
              </p:nvSpPr>
              <p:spPr>
                <a:xfrm>
                  <a:off x="5182200" y="463392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4.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4" name=""/>
                <p:cNvSpPr/>
                <p:nvPr/>
              </p:nvSpPr>
              <p:spPr>
                <a:xfrm>
                  <a:off x="5095800" y="463392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008120" y="4633920"/>
                <a:ext cx="2128680" cy="867240"/>
                <a:chOff x="7008120" y="4633920"/>
                <a:chExt cx="2128680" cy="867240"/>
              </a:xfrm>
            </p:grpSpPr>
            <p:sp>
              <p:nvSpPr>
                <p:cNvPr id="536" name=""/>
                <p:cNvSpPr/>
                <p:nvPr/>
              </p:nvSpPr>
              <p:spPr>
                <a:xfrm>
                  <a:off x="7094520" y="463392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
                <p:cNvSpPr/>
                <p:nvPr/>
              </p:nvSpPr>
              <p:spPr>
                <a:xfrm>
                  <a:off x="7008120" y="463392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5760" y="5501520"/>
                <a:ext cx="2961000" cy="674640"/>
                <a:chOff x="5760" y="5501520"/>
                <a:chExt cx="2961000" cy="674640"/>
              </a:xfrm>
            </p:grpSpPr>
            <p:sp>
              <p:nvSpPr>
                <p:cNvPr id="539" name=""/>
                <p:cNvSpPr/>
                <p:nvPr/>
              </p:nvSpPr>
              <p:spPr>
                <a:xfrm>
                  <a:off x="92160" y="550152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RADACINI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
                <p:cNvSpPr/>
                <p:nvPr/>
              </p:nvSpPr>
              <p:spPr>
                <a:xfrm>
                  <a:off x="5760" y="550152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2967120" y="5501520"/>
                <a:ext cx="2128320" cy="674640"/>
                <a:chOff x="2967120" y="5501520"/>
                <a:chExt cx="2128320" cy="674640"/>
              </a:xfrm>
            </p:grpSpPr>
            <p:sp>
              <p:nvSpPr>
                <p:cNvPr id="542" name=""/>
                <p:cNvSpPr/>
                <p:nvPr/>
              </p:nvSpPr>
              <p:spPr>
                <a:xfrm>
                  <a:off x="3053160" y="550152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7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
                <p:cNvSpPr/>
                <p:nvPr/>
              </p:nvSpPr>
              <p:spPr>
                <a:xfrm>
                  <a:off x="2967120" y="550152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5095800" y="5501520"/>
                <a:ext cx="1911600" cy="674640"/>
                <a:chOff x="5095800" y="5501520"/>
                <a:chExt cx="1911600" cy="674640"/>
              </a:xfrm>
            </p:grpSpPr>
            <p:sp>
              <p:nvSpPr>
                <p:cNvPr id="545" name=""/>
                <p:cNvSpPr/>
                <p:nvPr/>
              </p:nvSpPr>
              <p:spPr>
                <a:xfrm>
                  <a:off x="5182200" y="550152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7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5095800" y="550152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008120" y="5501520"/>
                <a:ext cx="2128680" cy="674640"/>
                <a:chOff x="7008120" y="5501520"/>
                <a:chExt cx="2128680" cy="674640"/>
              </a:xfrm>
            </p:grpSpPr>
            <p:sp>
              <p:nvSpPr>
                <p:cNvPr id="548" name=""/>
                <p:cNvSpPr/>
                <p:nvPr/>
              </p:nvSpPr>
              <p:spPr>
                <a:xfrm>
                  <a:off x="7094520" y="550152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
                <p:cNvSpPr/>
                <p:nvPr/>
              </p:nvSpPr>
              <p:spPr>
                <a:xfrm>
                  <a:off x="7008120" y="550152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5760" y="6176880"/>
                <a:ext cx="2961000" cy="675000"/>
                <a:chOff x="5760" y="6176880"/>
                <a:chExt cx="2961000" cy="675000"/>
              </a:xfrm>
            </p:grpSpPr>
            <p:sp>
              <p:nvSpPr>
                <p:cNvPr id="551" name=""/>
                <p:cNvSpPr/>
                <p:nvPr/>
              </p:nvSpPr>
              <p:spPr>
                <a:xfrm>
                  <a:off x="92160" y="6176880"/>
                  <a:ext cx="27878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TULPINI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
                <p:cNvSpPr/>
                <p:nvPr/>
              </p:nvSpPr>
              <p:spPr>
                <a:xfrm>
                  <a:off x="5760" y="6176880"/>
                  <a:ext cx="29610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2967120" y="6176880"/>
                <a:ext cx="2128320" cy="675000"/>
                <a:chOff x="2967120" y="6176880"/>
                <a:chExt cx="2128320" cy="675000"/>
              </a:xfrm>
            </p:grpSpPr>
            <p:sp>
              <p:nvSpPr>
                <p:cNvPr id="554" name=""/>
                <p:cNvSpPr/>
                <p:nvPr/>
              </p:nvSpPr>
              <p:spPr>
                <a:xfrm>
                  <a:off x="3053160" y="6176880"/>
                  <a:ext cx="19562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9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
                <p:cNvSpPr/>
                <p:nvPr/>
              </p:nvSpPr>
              <p:spPr>
                <a:xfrm>
                  <a:off x="2967120" y="6176880"/>
                  <a:ext cx="21283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5095800" y="6176880"/>
                <a:ext cx="1911600" cy="675000"/>
                <a:chOff x="5095800" y="6176880"/>
                <a:chExt cx="1911600" cy="675000"/>
              </a:xfrm>
            </p:grpSpPr>
            <p:sp>
              <p:nvSpPr>
                <p:cNvPr id="557" name=""/>
                <p:cNvSpPr/>
                <p:nvPr/>
              </p:nvSpPr>
              <p:spPr>
                <a:xfrm>
                  <a:off x="5182200" y="6176880"/>
                  <a:ext cx="17384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9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
                <p:cNvSpPr/>
                <p:nvPr/>
              </p:nvSpPr>
              <p:spPr>
                <a:xfrm>
                  <a:off x="5095800" y="6176880"/>
                  <a:ext cx="19116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7008120" y="6176880"/>
                <a:ext cx="2128680" cy="675000"/>
                <a:chOff x="7008120" y="6176880"/>
                <a:chExt cx="2128680" cy="675000"/>
              </a:xfrm>
            </p:grpSpPr>
            <p:sp>
              <p:nvSpPr>
                <p:cNvPr id="560" name=""/>
                <p:cNvSpPr/>
                <p:nvPr/>
              </p:nvSpPr>
              <p:spPr>
                <a:xfrm>
                  <a:off x="7094520" y="6176880"/>
                  <a:ext cx="195552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8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1" name=""/>
                <p:cNvSpPr/>
                <p:nvPr/>
              </p:nvSpPr>
              <p:spPr>
                <a:xfrm>
                  <a:off x="7008120" y="6176880"/>
                  <a:ext cx="212868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2" name=""/>
            <p:cNvSpPr/>
            <p:nvPr/>
          </p:nvSpPr>
          <p:spPr>
            <a:xfrm>
              <a:off x="0" y="0"/>
              <a:ext cx="914364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984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
        <p:nvSpPr>
          <p:cNvPr id="46"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MBRIONU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artea semintei care a luat nastere din oosfera fecundat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fr-FR" sz="2800" spc="-1" strike="noStrike">
                <a:solidFill>
                  <a:srgbClr val="000000"/>
                </a:solidFill>
                <a:latin typeface="Times New Roman"/>
              </a:rPr>
              <a:t>reprezinta germenele viitoarei pl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eda in miniatura toate organele esentiale ale plantei : o radicula sau radacinita, o tulpinita reprezentata de axa hipocotila, un muguras numit gemula si una sau doua frunze embrionare sau cotiledoa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t</a:t>
            </a:r>
            <a:r>
              <a:rPr b="0" lang="en-US" sz="2800" spc="-1" strike="noStrike">
                <a:solidFill>
                  <a:srgbClr val="000000"/>
                </a:solidFill>
                <a:latin typeface="Times New Roman"/>
              </a:rPr>
              <a:t>oate partile embrionului sunt formate din tesuturi meristematice nediferenti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63" name=""/>
          <p:cNvSpPr/>
          <p:nvPr/>
        </p:nvSpPr>
        <p:spPr>
          <a:xfrm>
            <a:off x="304920" y="380880"/>
            <a:ext cx="8458200" cy="64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Concluzii</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ro-RO" sz="4000" spc="-1" strike="noStrike">
                <a:solidFill>
                  <a:srgbClr val="000000"/>
                </a:solidFill>
                <a:latin typeface="Times New Roman"/>
              </a:rPr>
              <a:t>La semintele cu o jumatate de cotiledon aparitia plantulei a fost mai rapida decat la cele cu unu si doua  cotiledoan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ro-RO" sz="4000" spc="-1" strike="noStrike">
                <a:solidFill>
                  <a:srgbClr val="000000"/>
                </a:solidFill>
                <a:latin typeface="Times New Roman"/>
              </a:rPr>
              <a:t>Fazele germinatiei semintelelor cu un cotiledon au fost asemanatoare a durata cu cele ale semintelor cu doua cotiledoan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5. ENDOSPERMUL SAU ALBUMENU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a nastere din zigotul accesoriu al sacului embrionar si constituie tesutul de depozitare de substante de rezerva, care va hrani embrionul in formarea s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le plante nu poseda endosperm, dar au un tesut special, numit perisperm, care se formeaza din tesutul nuclear, asezat la exteriorul sacului embrionar (sfecla de zahar). Alte plante au si endosperm si perisperm.</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upa natura chimica a substantelor, endospermul poate fi : amilaceu, oleaginos, aleuronic si cornos, de exemplu, gramineele au ca substante de rezerva amidonul, ricinul, inul mustarul, au grasimi, multe leguminoase au aleurona.</a:t>
            </a:r>
            <a:endParaRPr b="0" lang="en-US" sz="28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VIATA LATENTA A EMBRIONULUI</a:t>
            </a:r>
            <a:br>
              <a:rPr sz="4400"/>
            </a:b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iata latenta a plantelor este un proces de adaptare  la conditiile variate de mediu. Asa de pilda, in conditii nefavorabile de mediu se instaleaza starea de repaus la : spori, zigoti, seminte, et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ionul intra in repaus in momentul maturatiei complete a semintelor. Starea de repaus se realizeaza ca o consecinta a urmatoarelor fenomene mai importante: scaderea la minimum a cantitatii de apa ; transformarea coloizilor in gel ; micsorarea vitezelor reactiilor biochimi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 repaus embrionul, nu-si schimba aspectul morfologic, ci numai starea fiziolog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GERMINATIA SEMINTELOR</a:t>
            </a:r>
            <a:br>
              <a:rPr sz="4400"/>
            </a:br>
            <a:endParaRPr b="0" lang="en-US" sz="4400" spc="-1" strike="noStrike">
              <a:solidFill>
                <a:srgbClr val="000000"/>
              </a:solidFill>
              <a:latin typeface="Times New Roman"/>
            </a:endParaRPr>
          </a:p>
        </p:txBody>
      </p:sp>
      <p:sp>
        <p:nvSpPr>
          <p:cNvPr id="52"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Prin germinatie se intelege totalitatea proceselor fiziologice si morfologice prin care trece embrionul din samanta de la starea de repaus la starea de crestere activa. </a:t>
            </a:r>
            <a:r>
              <a:rPr b="0" lang="en-US" sz="2800" spc="-1" strike="noStrike">
                <a:solidFill>
                  <a:srgbClr val="000000"/>
                </a:solidFill>
                <a:latin typeface="Times New Roman"/>
              </a:rPr>
              <a:t>Experimantal s-a demonstrat ca nu toate semintele unei plante pot germina. </a:t>
            </a:r>
            <a:r>
              <a:rPr b="0" lang="fr-FR" sz="2800" spc="-1" strike="noStrike">
                <a:solidFill>
                  <a:srgbClr val="000000"/>
                </a:solidFill>
                <a:latin typeface="Times New Roman"/>
              </a:rPr>
              <a:t>Acest fapt este legat de existenta mai multor factori interni sau exern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t>
            </a:r>
            <a:r>
              <a:rPr b="0" lang="fr-FR" sz="2800" spc="-1" strike="noStrike">
                <a:solidFill>
                  <a:srgbClr val="000000"/>
                </a:solidFill>
                <a:latin typeface="Times New Roman"/>
              </a:rPr>
              <a:t>	</a:t>
            </a:r>
            <a:r>
              <a:rPr b="0" lang="fr-FR" sz="2800" spc="-1" strike="noStrike">
                <a:solidFill>
                  <a:srgbClr val="000000"/>
                </a:solidFill>
                <a:latin typeface="Times New Roman"/>
              </a:rPr>
              <a:t>Dintre factorii interni citam : permeabilitatea tegumentului seminal, continutul in apa al semintelor, natura chimica a endospermului, prezenta enzimelor active, satrea de sanatate si maturitate fiziologica.  Dintre factorii externi mai importanti sunt : temperatura, lumina, apa si oxigenul.</a:t>
            </a:r>
            <a:endParaRPr b="0" lang="en-US" sz="28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ENOMENELE MORFOLOGICE ALE GERMINATIEI</a:t>
            </a:r>
            <a:r>
              <a:rPr b="0" lang="ro-RO"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In urma imbibarii cu apa, primul fenomen observat este umflarea seminte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uturile semintei cresc mult in volum, determina intinderea tegumentului seminal si in cele din urma, dezorganizarea lu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sirea radiculei care</a:t>
            </a:r>
            <a:r>
              <a:rPr b="0" lang="fr-FR" sz="2400" spc="-1" strike="noStrike">
                <a:solidFill>
                  <a:srgbClr val="000000"/>
                </a:solidFill>
                <a:latin typeface="Times New Roman"/>
              </a:rPr>
              <a:t> se orienteaza in sol intotdeauna vertical in jos, avand un geotropism pozitiv;</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scurt  timp apar perisorii absorbanti si fosta radicula devin radacina principala, adaptata functiilor de fixare si absorbti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ipocotilul si  epicotilul provenit din gemula cresc   in sens invers radacinii, transformandu-se in tulpina principala, ele au geotropism negativ.</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fasole germinatia este epigee, hipocotilul creste</a:t>
            </a:r>
            <a:r>
              <a:rPr b="0" lang="fr-FR" sz="2800" spc="-1" strike="noStrike">
                <a:solidFill>
                  <a:srgbClr val="000000"/>
                </a:solidFill>
                <a:latin typeface="Times New Roman"/>
              </a:rPr>
              <a:t> </a:t>
            </a:r>
            <a:r>
              <a:rPr b="0" lang="fr-FR" sz="2400" spc="-1" strike="noStrike">
                <a:solidFill>
                  <a:srgbClr val="000000"/>
                </a:solidFill>
                <a:latin typeface="Times New Roman"/>
              </a:rPr>
              <a:t>si ridica cotiledoanele deasupra solului.</a:t>
            </a:r>
            <a:endParaRPr b="0" lang="en-US" sz="2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ATE PRACTICA</a:t>
            </a:r>
            <a:br>
              <a:rPr sz="4400"/>
            </a:br>
            <a:r>
              <a:rPr b="1" lang="en-US" sz="4400" spc="-1" strike="noStrike">
                <a:solidFill>
                  <a:srgbClr val="000000"/>
                </a:solidFill>
                <a:latin typeface="Times New Roman"/>
              </a:rPr>
              <a:t> </a:t>
            </a:r>
            <a:br>
              <a:rPr sz="4400"/>
            </a:br>
            <a:r>
              <a:rPr b="0" lang="fr-FR" sz="4400" spc="-1" strike="noStrike">
                <a:solidFill>
                  <a:srgbClr val="000000"/>
                </a:solidFill>
                <a:latin typeface="Times New Roman"/>
              </a:rPr>
              <a:t>1.     OBSERVATII ASUPRA FAZELOR DE GERMINATIE SUB INFLUENTA UNOR FACTORI EXTERNI:</a:t>
            </a:r>
            <a:br>
              <a:rPr sz="4400"/>
            </a:br>
            <a:r>
              <a:rPr b="0" lang="fr-FR" sz="4400" spc="-1" strike="noStrike">
                <a:solidFill>
                  <a:srgbClr val="000000"/>
                </a:solidFill>
                <a:latin typeface="Times New Roman"/>
              </a:rPr>
              <a:t>APA DE LA ROBINET, APA PLATA(BORSEC),  APA DE IZVOR</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6857640"/>
            <a:ext cx="7772400" cy="228600"/>
          </a:xfrm>
          <a:prstGeom prst="rect">
            <a:avLst/>
          </a:prstGeom>
          <a:noFill/>
          <a:ln w="0">
            <a:noFill/>
          </a:ln>
        </p:spPr>
        <p:txBody>
          <a:bodyPr lIns="90000" rIns="90000" tIns="46800" bIns="46800" anchor="t">
            <a:normAutofit fontScale="3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9345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304920" y="0"/>
            <a:ext cx="8610480" cy="68580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teriale necesare</a:t>
            </a:r>
            <a:r>
              <a:rPr b="0" lang="fr-FR" sz="2400" spc="-1" strike="noStrike">
                <a:solidFill>
                  <a:srgbClr val="000000"/>
                </a:solidFill>
                <a:latin typeface="Times New Roman"/>
              </a:rPr>
              <a:t>: recipiente, seminte de fasole, fise de observati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odul de lucru</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e pun semintele la incoltit  cu apa de la robinet, cu apa de izvor si cu apa plata din comer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zilnic se urmaresc semintele pentru a evidentia transformarile suferite de acestea in procesul germinatie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registrarea datelor in fisele de observati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e vor identifica principalele etape ale germinatiei </a:t>
            </a:r>
            <a:r>
              <a:rPr b="0" lang="en-US" sz="2400" spc="-1" strike="noStrike">
                <a:solidFill>
                  <a:srgbClr val="000000"/>
                </a:solidFill>
                <a:latin typeface="Times New Roman"/>
              </a:rPr>
              <a:t>imbibarea semintelor cu apa, umflarea acestora </a:t>
            </a:r>
            <a:r>
              <a:rPr b="0" lang="fr-FR" sz="2400" spc="-1" strike="noStrike">
                <a:solidFill>
                  <a:srgbClr val="000000"/>
                </a:solidFill>
                <a:latin typeface="Times New Roman"/>
              </a:rPr>
              <a:t>ruperea tegumentului si aparitia radacinite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rea perisorilor absorbanti- radacinita devine radacina;</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sterea tulpinitei si transformarea ei in tulpina;</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rea primelor frunze; uscarea si caderea cotiledoanelo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1:26:30Z</dcterms:created>
  <dc:creator>LivP</dc:creator>
  <dc:description/>
  <dc:language>en-US</dc:language>
  <cp:lastModifiedBy>LivP</cp:lastModifiedBy>
  <dcterms:modified xsi:type="dcterms:W3CDTF">2003-01-21T19:39:41Z</dcterms:modified>
  <cp:revision>8</cp:revision>
  <dc:subject/>
  <dc:title>FACTORII CARE INFLUENTEAZA PUTEREA DE GERMINATIE A SEMINTELOR DE FASOLE</dc:title>
</cp:coreProperties>
</file>